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1648-5572-4E54-B3F1-4C9F10970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C458-4C7E-422E-A654-6E853403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B24C-9F22-4221-85E5-7BD6BDEF5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FAED-4C45-4999-A70E-66CFD6749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A5EF-EA22-4DA3-8646-D452262A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AF6E-8C17-4145-8137-CCF1ADB6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7EC2-1BBE-4EC7-83B4-CE131F3A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649F-08C8-4920-B5E1-C77CD91B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F213-1D3F-40FB-A553-4D9BE318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0764-12A0-4E72-B6BC-9D566A10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9195-42AE-49F1-8BF2-4E11500C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4C91-AFEF-456F-AD58-B49B6292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6855D2-5788-40CD-B601-042FA0F893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B254E6-1D69-460E-A57C-8597C83E10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gn of reliable distributed database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nnis Shas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ingle segmented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erver process that responds to cli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 the server by keeping track of which segments are being u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mall load balancing module that copies segments and adjusts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tend there is new hardware and drop that in to improve the performance of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e the data from one root database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broker to route queries to the least busy root database ser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error handling so that if one server cannot handle a query, another one c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air a root database that is missing some segments by copying from another root database. 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update as well as read transactions. Maintain a serializable order consistent with the arrival of the various transactions at the brok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use distribu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: different queries can be accessing different parts of data concurrently and without interfer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possible uses such a locating data near its users are not an issue for 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Use Replic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a Distributed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ailability: if one copy fails you can go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 for read-mostly applications: can go to any repl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racteristics of Business/Financial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comes in time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recent data is more heavily accessed than older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tch write. Trickle re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ying Things Out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a given “root database”, par.txt tells where all the distributed partitions 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tions must be disjoint, so no replication within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ion must come from multiple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dates go to all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s can go to any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sue: failure of a segment in one root datab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1: If a segment is down, use another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2: If segment is down in one root database, then copy from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3 (which is more complex): share segments in different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Load Balan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segments may be busier than oth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y move segments from one site to another to balance lo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 up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Dropping in New Hard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uld like the drop-in to simply improve th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k usage of different segments in each root database and load balance to move some segments to the new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3T09:44:07Z</dcterms:created>
  <dc:creator>Dennis Shasha</dc:creator>
  <dc:description/>
  <dc:language>en-US</dc:language>
  <cp:lastModifiedBy>Dennis Shasha</cp:lastModifiedBy>
  <dcterms:modified xsi:type="dcterms:W3CDTF">2012-06-03T11:42:11Z</dcterms:modified>
  <cp:revision>6</cp:revision>
  <dc:subject/>
  <dc:title>Distribution and Replication in KDB</dc:title>
</cp:coreProperties>
</file>