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8758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9273-47C6-438E-8898-E2EC8EF93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AE10-F5B7-457F-9EC2-92DC7E8B0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E2F5-B2F1-4676-BDDA-C6DC19D5D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5A35-47F0-4A84-B2AA-4E5DDA91D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4AE60-A293-4131-B37B-92A5BBE31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87BC2-E901-4130-8807-0339478E2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1DC6E-4209-45B4-B94C-5499F7D94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0213E-F205-4F6F-BF41-418D13FCA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5AA8C-CDFA-4E0D-AA15-D4BA4D19E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13284-1643-4B82-A10E-4CED45DC2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4641E-7FDD-4CAB-8B2D-EC86AB327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5CB0-D73A-4703-870D-96983D904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DFD90-47E3-40AD-8D14-22B988041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22BF5-ABED-4242-8A11-65A888D96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73245-50A4-4FC9-834D-8D9E3381D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AE3E2-7126-4E69-A08C-0CDC81F81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E867D-CEF5-4A08-82BB-74274769A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5926-A1BD-4D86-9F59-511C7D22B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A956-BBA5-43D9-A2D7-CBF27544F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D543-0B23-439A-9AE4-F91C1F137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D592-820E-49C3-BB93-39AE271D1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01B0-88D2-427E-B4DE-E4B5AEB59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631A-8157-4A18-B1FA-48B827E82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EF45-3080-45AE-8222-30C33A734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4DBD8-B2C8-4600-8B58-95D229F7CD0F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4DD84-723E-4FF8-81F1-E4B1958E5116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lerner@cs.nyu.edu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www.cs.nyu.edu/~lerner" TargetMode="External"/><Relationship Id="rId2" Type="http://schemas.openxmlformats.org/officeDocument/2006/relationships/hyperlink" Target="http://www.cs.nyu.edu/~lerner" TargetMode="External"/><Relationship Id="rId3" Type="http://schemas.openxmlformats.org/officeDocument/2006/relationships/hyperlink" Target="http://www.cs.nyu.edu/~lerner" TargetMode="External"/><Relationship Id="rId4" Type="http://schemas.openxmlformats.org/officeDocument/2006/relationships/hyperlink" Target="http://www.cs.nyu.edu/~lerner" TargetMode="External"/><Relationship Id="rId5" Type="http://schemas.openxmlformats.org/officeDocument/2006/relationships/hyperlink" Target="http://www.cs.nyu.edu/~lerner" TargetMode="External"/><Relationship Id="rId6" Type="http://schemas.openxmlformats.org/officeDocument/2006/relationships/hyperlink" Target="http://www.cs.nyu.edu/~lerner" TargetMode="External"/><Relationship Id="rId7" Type="http://schemas.openxmlformats.org/officeDocument/2006/relationships/hyperlink" Target="http://www.cs.nyu.edu/~lerner" TargetMode="External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A</a:t>
            </a: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Q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uery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A D</a:t>
            </a: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atabase 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S</a:t>
            </a: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ystem for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 O</a:t>
            </a: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rder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905120" y="342900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Dennis Shash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Joint work with Alberto Lerner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Times New Roman"/>
                <a:hlinkClick r:id="rId1"/>
              </a:rPr>
              <a:t>lerner@cs.nyu.edu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hasha@cs.nyu.edu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Moving average </a:t>
            </a:r>
            <a:br>
              <a:rPr sz="4400"/>
            </a:b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over Arrables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359" name=""/>
          <p:cNvSpPr/>
          <p:nvPr/>
        </p:nvSpPr>
        <p:spPr>
          <a:xfrm>
            <a:off x="844560" y="2376360"/>
            <a:ext cx="2741760" cy="25560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114280" y="2330280"/>
            <a:ext cx="62280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0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849040" y="2330280"/>
            <a:ext cx="65016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3-avg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0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1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3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6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270440" y="2330280"/>
            <a:ext cx="69588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894120" y="2362320"/>
            <a:ext cx="3644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month,avgs(3,sales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507480" y="3789360"/>
            <a:ext cx="482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Arrable: a collection of named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arrays, ordered by a column lis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489120" y="4587840"/>
            <a:ext cx="521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Each query defines data ordering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952880" y="2895480"/>
            <a:ext cx="2590920" cy="304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Moving average </a:t>
            </a:r>
            <a:br>
              <a:rPr sz="4400"/>
            </a:b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over Arrables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368" name=""/>
          <p:cNvSpPr/>
          <p:nvPr/>
        </p:nvSpPr>
        <p:spPr>
          <a:xfrm>
            <a:off x="844560" y="2376360"/>
            <a:ext cx="2741760" cy="25560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14280" y="2330280"/>
            <a:ext cx="62280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0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49040" y="2330280"/>
            <a:ext cx="65016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3-avg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0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1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3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6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270440" y="2330280"/>
            <a:ext cx="69588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894120" y="2362320"/>
            <a:ext cx="3644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month,avgs(3,sales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507480" y="3789360"/>
            <a:ext cx="482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Arrable: a collection of named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arrays, ordered by a column lis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89120" y="4587840"/>
            <a:ext cx="521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Each query defines data ordering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501720" y="5076720"/>
            <a:ext cx="520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Variables (e.g., month) are bound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to an array, as opposed to a valu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876920" y="2362320"/>
            <a:ext cx="838080" cy="30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752480" y="2044800"/>
            <a:ext cx="3353040" cy="317520"/>
          </a:xfrm>
          <a:custGeom>
            <a:avLst/>
            <a:gdLst/>
            <a:ahLst/>
            <a:rect l="l" t="t" r="r" b="b"/>
            <a:pathLst>
              <a:path w="2112" h="200">
                <a:moveTo>
                  <a:pt x="2112" y="200"/>
                </a:moveTo>
                <a:cubicBezTo>
                  <a:pt x="1640" y="108"/>
                  <a:pt x="1168" y="16"/>
                  <a:pt x="816" y="8"/>
                </a:cubicBezTo>
                <a:cubicBezTo>
                  <a:pt x="464" y="0"/>
                  <a:pt x="232" y="76"/>
                  <a:pt x="0" y="152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219320" y="2286000"/>
            <a:ext cx="761760" cy="1828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Moving average </a:t>
            </a:r>
            <a:br>
              <a:rPr sz="4400"/>
            </a:b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over Arrables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380" name=""/>
          <p:cNvSpPr/>
          <p:nvPr/>
        </p:nvSpPr>
        <p:spPr>
          <a:xfrm>
            <a:off x="844560" y="2376360"/>
            <a:ext cx="2741760" cy="25560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114280" y="2330280"/>
            <a:ext cx="62280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0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849040" y="2330280"/>
            <a:ext cx="65016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3-avg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0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1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3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6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70440" y="2330280"/>
            <a:ext cx="69588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894120" y="2362320"/>
            <a:ext cx="3644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month,avgs(3,sales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507480" y="3789360"/>
            <a:ext cx="482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Arrable: a collection of named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arrays, ordered by a column lis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489120" y="4587840"/>
            <a:ext cx="521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Each query defines data ordering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501720" y="5076720"/>
            <a:ext cx="520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Variables (e.g., month) are bound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to an array, as opposed to a valu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420000" y="5807160"/>
            <a:ext cx="586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Expression are mappings from arrays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to arra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638680" y="2362320"/>
            <a:ext cx="16765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Built-in</a:t>
            </a: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 Functions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391" name=""/>
          <p:cNvSpPr/>
          <p:nvPr/>
        </p:nvSpPr>
        <p:spPr>
          <a:xfrm>
            <a:off x="2057400" y="2971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666880" y="2819520"/>
            <a:ext cx="2438640" cy="1523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Garamond"/>
              </a:rPr>
              <a:t>prev, nex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Garamond"/>
              </a:rPr>
              <a:t>avgs, prds, sums, </a:t>
            </a:r>
            <a:r>
              <a:rPr b="0" lang="pt-BR" sz="1800" spc="-1" strike="noStrike">
                <a:solidFill>
                  <a:srgbClr val="003366"/>
                </a:solidFill>
                <a:latin typeface="Garamond"/>
              </a:rPr>
              <a:t>mins,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Garamond"/>
              </a:rPr>
              <a:t>deltas, ratios, reverse,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Garamond"/>
              </a:rPr>
              <a:t>…</a:t>
            </a:r>
            <a:br>
              <a:rPr sz="1800"/>
            </a:b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105520" y="2819520"/>
            <a:ext cx="2438280" cy="1523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Garamond"/>
              </a:rPr>
              <a:t>drop, first, la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105520" y="4343400"/>
            <a:ext cx="2438280" cy="1523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666880" y="4343400"/>
            <a:ext cx="2438640" cy="1523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191240" y="3314880"/>
            <a:ext cx="11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order-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depend</a:t>
            </a:r>
            <a:r>
              <a:rPr b="0" lang="pt-BR" sz="1800" spc="-1" strike="noStrike">
                <a:solidFill>
                  <a:srgbClr val="003366"/>
                </a:solidFill>
                <a:latin typeface="Times New Roman"/>
              </a:rPr>
              <a:t>e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n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171080" y="4730760"/>
            <a:ext cx="114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non order-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depend</a:t>
            </a:r>
            <a:r>
              <a:rPr b="0" lang="pt-BR" sz="1800" spc="-1" strike="noStrike">
                <a:solidFill>
                  <a:srgbClr val="003366"/>
                </a:solidFill>
                <a:latin typeface="Times New Roman"/>
              </a:rPr>
              <a:t>e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n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371400" y="2139840"/>
            <a:ext cx="114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ze-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preserving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760360" y="2139840"/>
            <a:ext cx="114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non size-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preserving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666880" y="4343400"/>
            <a:ext cx="2438640" cy="1523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Garamond"/>
              </a:rPr>
              <a:t>rank, </a:t>
            </a:r>
            <a:r>
              <a:rPr b="0" lang="pt-BR" sz="1800" spc="-1" strike="noStrike">
                <a:solidFill>
                  <a:srgbClr val="003366"/>
                </a:solidFill>
                <a:latin typeface="Garamond"/>
              </a:rPr>
              <a:t>n-</a:t>
            </a:r>
            <a:r>
              <a:rPr b="0" lang="en-US" sz="1800" spc="-1" strike="noStrike">
                <a:solidFill>
                  <a:srgbClr val="003366"/>
                </a:solidFill>
                <a:latin typeface="Garamond"/>
              </a:rPr>
              <a:t>til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105520" y="4343400"/>
            <a:ext cx="2438280" cy="1523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Garamond"/>
              </a:rPr>
              <a:t>min, max, avg, coun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Emotive Quer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414440" y="5562720"/>
            <a:ext cx="71200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price      </a:t>
            </a:r>
            <a:r>
              <a:rPr b="0" lang="en-US" sz="1300" spc="-1" strike="noStrike">
                <a:solidFill>
                  <a:srgbClr val="003366"/>
                </a:solidFill>
                <a:latin typeface="Courier New"/>
              </a:rPr>
              <a:t>15 19 16 17 15 13 5 8 7 13 11 14 10 5 2 </a:t>
            </a:r>
            <a:r>
              <a:rPr b="0" lang="pt-BR" sz="1300" spc="-1" strike="noStrike">
                <a:solidFill>
                  <a:srgbClr val="003366"/>
                </a:solidFill>
                <a:latin typeface="Courier New"/>
              </a:rPr>
              <a:t>5</a:t>
            </a: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2209680" y="3408480"/>
          <a:ext cx="4876920" cy="200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408480"/>
                    <a:ext cx="4876920" cy="200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6" name=""/>
          <p:cNvSpPr/>
          <p:nvPr/>
        </p:nvSpPr>
        <p:spPr>
          <a:xfrm>
            <a:off x="455040" y="2265480"/>
            <a:ext cx="857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Find the best profit one could make by buying a stock an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selling it later in the same da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Emotive Quer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414440" y="5562360"/>
            <a:ext cx="71200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price      </a:t>
            </a:r>
            <a:r>
              <a:rPr b="0" lang="en-US" sz="1300" spc="-1" strike="noStrike">
                <a:solidFill>
                  <a:srgbClr val="003366"/>
                </a:solidFill>
                <a:latin typeface="Courier New"/>
              </a:rPr>
              <a:t>15 19 16 17 15 13 5 8 7 13 11 14 10 5 2 </a:t>
            </a:r>
            <a:r>
              <a:rPr b="0" lang="pt-BR" sz="1300" spc="-1" strike="noStrike">
                <a:solidFill>
                  <a:srgbClr val="003366"/>
                </a:solidFill>
                <a:latin typeface="Courier New"/>
              </a:rPr>
              <a:t>5</a:t>
            </a: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mins(price)</a:t>
            </a:r>
            <a:r>
              <a:rPr b="0" lang="pt-BR" sz="1300" spc="-1" strike="noStrike">
                <a:solidFill>
                  <a:srgbClr val="003366"/>
                </a:solidFill>
                <a:latin typeface="Courier New"/>
              </a:rPr>
              <a:t>15 15 15 15 15 13 5 5 5  5  5  5  5 5 2 2</a:t>
            </a: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           </a:t>
            </a:r>
            <a:r>
              <a:rPr b="0" lang="pt-BR" sz="1300" spc="-1" strike="noStrike">
                <a:solidFill>
                  <a:srgbClr val="003366"/>
                </a:solidFill>
                <a:latin typeface="Courier New"/>
              </a:rPr>
              <a:t>0  4  1  2  0  0  0 3 2  8  6  9  0 0 0 3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2286000" y="3352680"/>
          <a:ext cx="4853160" cy="1994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3352680"/>
                    <a:ext cx="4853160" cy="199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1" name=""/>
          <p:cNvSpPr/>
          <p:nvPr/>
        </p:nvSpPr>
        <p:spPr>
          <a:xfrm>
            <a:off x="1295280" y="6172200"/>
            <a:ext cx="66294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715000" y="5486400"/>
            <a:ext cx="380880" cy="990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55040" y="2265480"/>
            <a:ext cx="857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Find the best profit one could make by buying a stock an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selling it later in the same da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Best-profit </a:t>
            </a: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Q</a:t>
            </a: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uery </a:t>
            </a: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C</a:t>
            </a: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omparison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0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[AQuery]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SELECT max(price–mins(price)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FROM   ticks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  ASSUMING timestamp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WHERE  ID=“S”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AND  tradeDate=‘1/10/03'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867200" y="2214360"/>
            <a:ext cx="4276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[SQL:1999]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SELECT max(rdif)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FROM   (SELECT ID,tradeDate,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price - min(price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OVER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(PARTITION BY ID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,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                     tradeDate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      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ORDER BY timestamp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      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ROWS UNBOUNDED 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      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PRECEDING) AS rdif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FROM   Ticks ) AS t1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WHERE   ID=“S”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AND   tradeDate=‘1/10/03'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066680" y="5105520"/>
            <a:ext cx="2438640" cy="99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3328" y="8827"/>
                </a:moveTo>
                <a:lnTo>
                  <a:pt x="22275" y="2492"/>
                </a:lnTo>
              </a:path>
              <a:path w="21600" h="21600">
                <a:moveTo>
                  <a:pt x="22275" y="0"/>
                </a:moveTo>
                <a:lnTo>
                  <a:pt x="22275" y="21600"/>
                </a:ln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Times New Roman"/>
              </a:rPr>
              <a:t>Optimizer doesn’t</a:t>
            </a:r>
            <a:br>
              <a:rPr sz="1400"/>
            </a:br>
            <a:r>
              <a:rPr b="0" lang="pt-BR" sz="1400" spc="-1" strike="noStrike">
                <a:solidFill>
                  <a:srgbClr val="003366"/>
                </a:solidFill>
                <a:latin typeface="Times New Roman"/>
              </a:rPr>
              <a:t>push this selection. To get good performance, the query author has to rewrite it.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Best-profit Query Performance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1600200" y="2357280"/>
          <a:ext cx="6705720" cy="334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357280"/>
                    <a:ext cx="6705720" cy="33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Complex queries: </a:t>
            </a: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Network </a:t>
            </a:r>
            <a:br>
              <a:rPr sz="4000"/>
            </a:b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Management Query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 Revisited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Create a log of flow information. A flow from src to dest ends after a 2-minutes silenc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85800" y="5105520"/>
            <a:ext cx="8001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rc, dst, count(*), avg(len)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Packet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src, dst, time 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GROUP  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BY src, dst, sums (deltas(time) &gt; 120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724280" y="2421000"/>
            <a:ext cx="426744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017480" y="2362320"/>
            <a:ext cx="564840" cy="6426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e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332400" y="2362320"/>
            <a:ext cx="513000" cy="6426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715000" y="2362320"/>
            <a:ext cx="476280" cy="611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66"/>
                </a:solidFill>
                <a:latin typeface="Arial Narrow"/>
              </a:rPr>
              <a:t>pI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747680" y="23623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acke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733520" y="2362320"/>
            <a:ext cx="450360" cy="6426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368560" y="2362320"/>
            <a:ext cx="564840" cy="6426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Network Management Query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in Pictures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432" name=""/>
          <p:cNvSpPr/>
          <p:nvPr/>
        </p:nvSpPr>
        <p:spPr>
          <a:xfrm>
            <a:off x="706320" y="2421000"/>
            <a:ext cx="348480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466440" y="2362320"/>
            <a:ext cx="56484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184840" y="2362320"/>
            <a:ext cx="5130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565280" y="2362320"/>
            <a:ext cx="4762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13800" y="23623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acke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85800" y="5105520"/>
            <a:ext cx="8001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rc, dst, count(*), avg(len)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Packet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src, dst, time 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GROUP  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BY src, dst, sums (deltas(time) &gt; 120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838240" y="2362320"/>
            <a:ext cx="5022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8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Motivation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The need for ordered data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Queries in Finance, Biology, and Network Management depend on order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QL 99 has extensions</a:t>
            </a: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 –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e OLAP amendment – that incorporate order to the language but they are clumsy to use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Network Management Query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in Pictures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440" name=""/>
          <p:cNvSpPr/>
          <p:nvPr/>
        </p:nvSpPr>
        <p:spPr>
          <a:xfrm>
            <a:off x="706320" y="2421000"/>
            <a:ext cx="348480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466440" y="2362320"/>
            <a:ext cx="56484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184840" y="2362320"/>
            <a:ext cx="5130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65280" y="2362320"/>
            <a:ext cx="4762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13800" y="23623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acke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724280" y="2421000"/>
            <a:ext cx="350532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504920" y="2362320"/>
            <a:ext cx="56484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202800" y="2362320"/>
            <a:ext cx="5130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583240" y="2362320"/>
            <a:ext cx="4762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631760" y="23623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acke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85800" y="5105520"/>
            <a:ext cx="8001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rc, dst, count(*), avg(len)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Packet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ff0000"/>
                </a:solidFill>
                <a:latin typeface="Courier New"/>
              </a:rPr>
              <a:t>ASSUMING ORDER src, dst, time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 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GROUP  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BY src, dst, sums (deltas(time) &gt; 120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838240" y="2362320"/>
            <a:ext cx="5022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8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865560" y="2362320"/>
            <a:ext cx="5022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8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Network Management Query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in Pictures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454" name=""/>
          <p:cNvSpPr/>
          <p:nvPr/>
        </p:nvSpPr>
        <p:spPr>
          <a:xfrm>
            <a:off x="706320" y="2421000"/>
            <a:ext cx="348480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466440" y="2362320"/>
            <a:ext cx="56484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184840" y="2362320"/>
            <a:ext cx="5130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565280" y="2362320"/>
            <a:ext cx="4762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13800" y="23623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acke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85800" y="5105520"/>
            <a:ext cx="8001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rc, dst, count(*), avg(len)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Packet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src, dst, time 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GROUP  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BY src, dst, sums (</a:t>
            </a:r>
            <a:r>
              <a:rPr b="1" lang="pt-BR" sz="1600" spc="-1" strike="noStrike">
                <a:solidFill>
                  <a:srgbClr val="ff0000"/>
                </a:solidFill>
                <a:latin typeface="Courier New"/>
              </a:rPr>
              <a:t>deltas(time) &gt; 120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838240" y="2362320"/>
            <a:ext cx="5022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8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252680" y="2362320"/>
            <a:ext cx="3880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c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Network Management Query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in Pictures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463" name=""/>
          <p:cNvSpPr/>
          <p:nvPr/>
        </p:nvSpPr>
        <p:spPr>
          <a:xfrm>
            <a:off x="706320" y="2421000"/>
            <a:ext cx="348480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466440" y="2362320"/>
            <a:ext cx="56484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184840" y="2362320"/>
            <a:ext cx="5130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565280" y="2362320"/>
            <a:ext cx="4762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13800" y="23623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acke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85800" y="5105520"/>
            <a:ext cx="8001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rc, dst, count(*), avg(len)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Packet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src, dst, time 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GROUP  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BY src, dst, </a:t>
            </a:r>
            <a:r>
              <a:rPr b="1" lang="pt-BR" sz="1600" spc="-1" strike="noStrike">
                <a:solidFill>
                  <a:srgbClr val="ff0000"/>
                </a:solidFill>
                <a:latin typeface="Courier New"/>
              </a:rPr>
              <a:t>sums (deltas(time) &gt; 120</a:t>
            </a:r>
            <a:r>
              <a:rPr b="0" lang="pt-BR" sz="1600" spc="-1" strike="noStrike">
                <a:solidFill>
                  <a:srgbClr val="ff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838240" y="2362320"/>
            <a:ext cx="5022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8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252680" y="2362320"/>
            <a:ext cx="3880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c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808160" y="2362320"/>
            <a:ext cx="3880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c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Network Management Query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in Pictures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473" name=""/>
          <p:cNvSpPr/>
          <p:nvPr/>
        </p:nvSpPr>
        <p:spPr>
          <a:xfrm>
            <a:off x="706320" y="2421000"/>
            <a:ext cx="348480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466440" y="2362320"/>
            <a:ext cx="56484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184840" y="2362320"/>
            <a:ext cx="5130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565280" y="2362320"/>
            <a:ext cx="4762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13800" y="23623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acke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85800" y="5105520"/>
            <a:ext cx="8001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rc, dst, count(*), avg(len)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Packet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src, dst, time 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GROUP  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BY </a:t>
            </a:r>
            <a:r>
              <a:rPr b="1" lang="pt-BR" sz="1600" spc="-1" strike="noStrike">
                <a:solidFill>
                  <a:srgbClr val="ff0000"/>
                </a:solidFill>
                <a:latin typeface="Courier New"/>
              </a:rPr>
              <a:t>src, dst, sums (deltas(time) &gt; 120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838240" y="2362320"/>
            <a:ext cx="5022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8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252680" y="2362320"/>
            <a:ext cx="3880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c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808160" y="2362320"/>
            <a:ext cx="3880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c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447920" y="2743200"/>
            <a:ext cx="75960" cy="457200"/>
          </a:xfrm>
          <a:custGeom>
            <a:avLst/>
            <a:gdLst>
              <a:gd name="textAreaLeft" fmla="*/ 48600 w 75960"/>
              <a:gd name="textAreaRight" fmla="*/ 76320 w 7596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447920" y="3276720"/>
            <a:ext cx="75960" cy="228600"/>
          </a:xfrm>
          <a:custGeom>
            <a:avLst/>
            <a:gdLst>
              <a:gd name="textAreaLeft" fmla="*/ 48600 w 75960"/>
              <a:gd name="textAreaRight" fmla="*/ 76320 w 7596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447920" y="3581280"/>
            <a:ext cx="75960" cy="762120"/>
          </a:xfrm>
          <a:custGeom>
            <a:avLst/>
            <a:gdLst>
              <a:gd name="textAreaLeft" fmla="*/ 48600 w 75960"/>
              <a:gd name="textAreaRight" fmla="*/ 76320 w 7596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Network Management Query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in Pictures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486" name=""/>
          <p:cNvSpPr/>
          <p:nvPr/>
        </p:nvSpPr>
        <p:spPr>
          <a:xfrm>
            <a:off x="706320" y="2421000"/>
            <a:ext cx="348480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466440" y="2362320"/>
            <a:ext cx="56484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184840" y="2362320"/>
            <a:ext cx="5130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565280" y="2362320"/>
            <a:ext cx="4762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13800" y="23623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acke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85800" y="5105520"/>
            <a:ext cx="8001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rc, dst, count(*), avg(len)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Packet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src, dst, time </a:t>
            </a:r>
            <a:br>
              <a:rPr sz="1600"/>
            </a:br>
            <a:r>
              <a:rPr b="1" lang="pt-BR" sz="1600" spc="-1" strike="noStrike">
                <a:solidFill>
                  <a:srgbClr val="ff0000"/>
                </a:solidFill>
                <a:latin typeface="Courier New"/>
              </a:rPr>
              <a:t>GROUP  </a:t>
            </a:r>
            <a:r>
              <a:rPr b="1" lang="pt-BR" sz="16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ff0000"/>
                </a:solidFill>
                <a:latin typeface="Courier New"/>
              </a:rPr>
              <a:t>BY src, dst, sums (deltas(time) &gt; 120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838240" y="2362320"/>
            <a:ext cx="5022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8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447920" y="2743200"/>
            <a:ext cx="75960" cy="457200"/>
          </a:xfrm>
          <a:custGeom>
            <a:avLst/>
            <a:gdLst>
              <a:gd name="textAreaLeft" fmla="*/ 48600 w 75960"/>
              <a:gd name="textAreaRight" fmla="*/ 76320 w 7596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447920" y="3276720"/>
            <a:ext cx="75960" cy="228600"/>
          </a:xfrm>
          <a:custGeom>
            <a:avLst/>
            <a:gdLst>
              <a:gd name="textAreaLeft" fmla="*/ 48600 w 75960"/>
              <a:gd name="textAreaRight" fmla="*/ 76320 w 7596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447920" y="3581280"/>
            <a:ext cx="75960" cy="762120"/>
          </a:xfrm>
          <a:custGeom>
            <a:avLst/>
            <a:gdLst>
              <a:gd name="textAreaLeft" fmla="*/ 48600 w 75960"/>
              <a:gd name="textAreaRight" fmla="*/ 76320 w 7596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952880" y="2421000"/>
            <a:ext cx="403884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766280" y="2362320"/>
            <a:ext cx="111348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,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,150,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766480" y="2362320"/>
            <a:ext cx="51300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146560" y="2362320"/>
            <a:ext cx="47628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417720" y="2362320"/>
            <a:ext cx="121716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,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,280,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Network Management Query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in Pictures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502" name=""/>
          <p:cNvSpPr/>
          <p:nvPr/>
        </p:nvSpPr>
        <p:spPr>
          <a:xfrm>
            <a:off x="706320" y="2421000"/>
            <a:ext cx="348480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466440" y="2362320"/>
            <a:ext cx="56484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184840" y="2362320"/>
            <a:ext cx="5130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565280" y="2362320"/>
            <a:ext cx="4762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13800" y="23623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acke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85800" y="5105520"/>
            <a:ext cx="8001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pt-BR" sz="1600" spc="-1" strike="noStrike">
                <a:solidFill>
                  <a:srgbClr val="ff0000"/>
                </a:solidFill>
                <a:latin typeface="Courier New"/>
              </a:rPr>
              <a:t>SELECT</a:t>
            </a:r>
            <a:r>
              <a:rPr b="1" lang="pt-BR" sz="16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ff0000"/>
                </a:solidFill>
                <a:latin typeface="Courier New"/>
              </a:rPr>
              <a:t>src, dst, count(*), avg(len)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Packet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src, dst, time 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GROUP  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BY src, dst, sums (deltas(time) &gt; 120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838240" y="2362320"/>
            <a:ext cx="5022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8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447920" y="2743200"/>
            <a:ext cx="75960" cy="457200"/>
          </a:xfrm>
          <a:custGeom>
            <a:avLst/>
            <a:gdLst>
              <a:gd name="textAreaLeft" fmla="*/ 48600 w 75960"/>
              <a:gd name="textAreaRight" fmla="*/ 76320 w 7596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447920" y="3276720"/>
            <a:ext cx="75960" cy="228600"/>
          </a:xfrm>
          <a:custGeom>
            <a:avLst/>
            <a:gdLst>
              <a:gd name="textAreaLeft" fmla="*/ 48600 w 75960"/>
              <a:gd name="textAreaRight" fmla="*/ 76320 w 7596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447920" y="3581280"/>
            <a:ext cx="75960" cy="762120"/>
          </a:xfrm>
          <a:custGeom>
            <a:avLst/>
            <a:gdLst>
              <a:gd name="textAreaLeft" fmla="*/ 48600 w 75960"/>
              <a:gd name="textAreaRight" fmla="*/ 76320 w 7596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952880" y="2421000"/>
            <a:ext cx="403884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766280" y="2362320"/>
            <a:ext cx="111348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,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,150,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766480" y="2362320"/>
            <a:ext cx="51300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146560" y="2362320"/>
            <a:ext cx="47628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417720" y="2362320"/>
            <a:ext cx="121716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,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,280,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952880" y="3868560"/>
            <a:ext cx="4038840" cy="24624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878600" y="3809880"/>
            <a:ext cx="88776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count(*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766480" y="3809880"/>
            <a:ext cx="51300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146560" y="3809880"/>
            <a:ext cx="47628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550200" y="3809880"/>
            <a:ext cx="94896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avg(len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6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Network Management Query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Performance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graphicFrame>
        <p:nvGraphicFramePr>
          <p:cNvPr id="523" name=""/>
          <p:cNvGraphicFramePr/>
          <p:nvPr/>
        </p:nvGraphicFramePr>
        <p:xfrm>
          <a:off x="4005360" y="3343320"/>
          <a:ext cx="1135080" cy="166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05360" y="3343320"/>
                    <a:ext cx="1135080" cy="1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5" name=""/>
          <p:cNvGraphicFramePr/>
          <p:nvPr/>
        </p:nvGraphicFramePr>
        <p:xfrm>
          <a:off x="1633680" y="2428920"/>
          <a:ext cx="6111720" cy="3097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33680" y="2428920"/>
                    <a:ext cx="6111720" cy="30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Order-aware Query Languages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528" name=""/>
          <p:cNvSpPr/>
          <p:nvPr/>
        </p:nvSpPr>
        <p:spPr>
          <a:xfrm>
            <a:off x="10666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Relations,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quences</a:t>
            </a: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and ordered-relatio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SQL:1999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Sequin (Seshadri et al., 96)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SRQL (Ramakrishnan et al., 98)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Grouping in SQL (Chatziantoniou and Ross, 96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rray query languag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AQL (Libkin et al., 96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AML (Marathe and Salem, 97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RaSQL (Widmann and Baumann, 98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KSQL (KX Systems) – our direct ancesto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Order-related </a:t>
            </a:r>
            <a:br>
              <a:rPr sz="4400"/>
            </a:b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O</a:t>
            </a: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ptimization </a:t>
            </a: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T</a:t>
            </a: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echniques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tarburst’s “glue” (Lohman 88) and Exodus/Volcano “Enforcers” (Graefe and McKeena, 93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DB2 Order optimization (Simmens et al., 96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op-k query optimization (Carey and Kossman, 97</a:t>
            </a: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; Bruno,Chaudhuri, and Gravano 02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Hash-based order-preserving join (Claussen et al., 01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emporal query optimization addressing order and duplicates (Slivinskas et al., 01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AQuery Optimization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Optimization is cost base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he main strategies are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Define the extent of the order-preserving region of the plan, considering (correctness, obviously, and) the performance of variation of operator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Exploit algebraic equivalenc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pply efficient implementations of patterns of operators (e.g. “edge-by”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3-month moving average: </a:t>
            </a:r>
            <a:br>
              <a:rPr sz="4400"/>
            </a:b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the wrong wa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844560" y="2327400"/>
            <a:ext cx="2432160" cy="1742760"/>
            <a:chOff x="844560" y="2327400"/>
            <a:chExt cx="2432160" cy="1742760"/>
          </a:xfrm>
        </p:grpSpPr>
        <p:sp>
          <p:nvSpPr>
            <p:cNvPr id="296" name=""/>
            <p:cNvSpPr/>
            <p:nvPr/>
          </p:nvSpPr>
          <p:spPr>
            <a:xfrm>
              <a:off x="844560" y="2327400"/>
              <a:ext cx="2432160" cy="3204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981080" y="2330280"/>
              <a:ext cx="622800" cy="17398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 </a:t>
              </a:r>
              <a:r>
                <a:rPr b="0" lang="pt-BR" sz="1600" spc="-1" strike="noStrike">
                  <a:solidFill>
                    <a:srgbClr val="003366"/>
                  </a:solidFill>
                  <a:latin typeface="Arial Narrow"/>
                </a:rPr>
                <a:t>sales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0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2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4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4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3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620440" y="2330280"/>
              <a:ext cx="650160" cy="17398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 </a:t>
              </a:r>
              <a:r>
                <a:rPr b="0" lang="pt-BR" sz="1600" spc="-1" strike="noStrike">
                  <a:solidFill>
                    <a:srgbClr val="003366"/>
                  </a:solidFill>
                  <a:latin typeface="Arial Narrow"/>
                </a:rPr>
                <a:t>3-avg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0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1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2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33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36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270440" y="2330280"/>
              <a:ext cx="695880" cy="17398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 </a:t>
              </a:r>
              <a:r>
                <a:rPr b="0" lang="pt-BR" sz="1600" spc="-1" strike="noStrike">
                  <a:solidFill>
                    <a:srgbClr val="003366"/>
                  </a:solidFill>
                  <a:latin typeface="Arial Narrow"/>
                </a:rPr>
                <a:t>month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2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3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4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5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3740040" y="2362320"/>
            <a:ext cx="4863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1.month,t1.sales,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(t1.sales+t2.sales+t3.sales)/3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ales t1, Sales t2, Sales t3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WHERE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1.month – 1 = t2.month AN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1.month – 2 = t3.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591360" y="3933720"/>
            <a:ext cx="189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Garamond"/>
              </a:rPr>
              <a:t>Problems?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1219320" y="2743200"/>
            <a:ext cx="7320240" cy="2091600"/>
            <a:chOff x="1219320" y="2743200"/>
            <a:chExt cx="7320240" cy="2091600"/>
          </a:xfrm>
        </p:grpSpPr>
        <p:sp>
          <p:nvSpPr>
            <p:cNvPr id="303" name=""/>
            <p:cNvSpPr/>
            <p:nvPr/>
          </p:nvSpPr>
          <p:spPr>
            <a:xfrm flipV="1">
              <a:off x="1219320" y="2743200"/>
              <a:ext cx="2209680" cy="380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219320" y="2743200"/>
              <a:ext cx="2209680" cy="380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427560" y="4375080"/>
              <a:ext cx="511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3366"/>
                </a:buClr>
                <a:buFont typeface="Garamon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 </a:t>
              </a: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Join eliminates first two months!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333240" y="2895480"/>
            <a:ext cx="6046200" cy="2654280"/>
            <a:chOff x="3333240" y="2895480"/>
            <a:chExt cx="6046200" cy="2654280"/>
          </a:xfrm>
        </p:grpSpPr>
        <p:sp>
          <p:nvSpPr>
            <p:cNvPr id="307" name=""/>
            <p:cNvSpPr/>
            <p:nvPr/>
          </p:nvSpPr>
          <p:spPr>
            <a:xfrm>
              <a:off x="4724280" y="2895480"/>
              <a:ext cx="3657600" cy="30492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333240" y="4724280"/>
              <a:ext cx="6046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3366"/>
                </a:buClr>
                <a:buFont typeface="Garamon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 </a:t>
              </a: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Do we really need a three-way join?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3366"/>
                </a:buClr>
                <a:buFont typeface="Garamon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 </a:t>
              </a: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Can the optimizer make it linear-time?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762120" y="2192400"/>
            <a:ext cx="784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SELECT ts.ID, avgs(10, hq.ClosePrice)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FROM   TradedStocks AS ts NATURAL JOIN 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       HistoricQuotes AS hq 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       ASSUMING ORDER hq.TradeDate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GROUP  BY Id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Interchange sorting + order preserving operators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535" name=""/>
          <p:cNvSpPr/>
          <p:nvPr/>
        </p:nvSpPr>
        <p:spPr>
          <a:xfrm>
            <a:off x="528840" y="5764320"/>
            <a:ext cx="193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(1) Sort then join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preserving order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417400" y="5780160"/>
            <a:ext cx="2291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(2) Preserve existing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order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852800" y="5780160"/>
            <a:ext cx="191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(3) Join then sort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before grouping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797120" y="5410080"/>
            <a:ext cx="75960" cy="38124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958680" y="5334120"/>
            <a:ext cx="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1339920" y="4876560"/>
            <a:ext cx="7596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1035000" y="5333760"/>
            <a:ext cx="7632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882720" y="5410080"/>
            <a:ext cx="75960" cy="38124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1644480" y="4876920"/>
            <a:ext cx="152640" cy="4572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1568520" y="4419360"/>
            <a:ext cx="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1568520" y="3962160"/>
            <a:ext cx="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V="1">
            <a:off x="3618000" y="489240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038480" y="5410080"/>
            <a:ext cx="76320" cy="38124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124080" y="5410080"/>
            <a:ext cx="76320" cy="38124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 flipV="1">
            <a:off x="3809880" y="5333760"/>
            <a:ext cx="7632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V="1">
            <a:off x="5900760" y="4906800"/>
            <a:ext cx="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321600" y="5410080"/>
            <a:ext cx="75960" cy="38124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5559480" y="5333760"/>
            <a:ext cx="7632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407200" y="5410080"/>
            <a:ext cx="75960" cy="38124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H="1" flipV="1">
            <a:off x="6092640" y="5333760"/>
            <a:ext cx="7596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946920" y="5780160"/>
            <a:ext cx="191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(4) Join then sort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after grouping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7994520" y="4906800"/>
            <a:ext cx="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8415360" y="5410080"/>
            <a:ext cx="76320" cy="38124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7653240" y="5333760"/>
            <a:ext cx="7632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500960" y="5410080"/>
            <a:ext cx="76320" cy="38124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H="1" flipV="1">
            <a:off x="8186760" y="5333760"/>
            <a:ext cx="7632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8001000" y="434304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372680" y="358128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635480" y="3699000"/>
            <a:ext cx="62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avgs(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482640" y="403848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761280" y="4156200"/>
            <a:ext cx="62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avgs(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768640" y="350532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047280" y="3622680"/>
            <a:ext cx="62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avgs(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826040" y="350532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8104680" y="3622680"/>
            <a:ext cx="62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avgs(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914400" y="487692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or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638680" y="449568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or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696080" y="396252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or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1371600" y="457164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1371240" y="457164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676520" y="457200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371600" y="457200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1523880" y="4419360"/>
            <a:ext cx="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1523880" y="3962160"/>
            <a:ext cx="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1295280" y="4876560"/>
            <a:ext cx="7632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V="1">
            <a:off x="3581280" y="4890960"/>
            <a:ext cx="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3657600" y="442080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V="1">
            <a:off x="3621240" y="441936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V="1">
            <a:off x="3429000" y="510516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H="1" flipV="1">
            <a:off x="3428640" y="510516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733920" y="51055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429000" y="51055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5715000" y="510516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 flipV="1">
            <a:off x="5714640" y="510516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019920" y="51055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715000" y="51055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5943600" y="442080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5907240" y="441936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5943600" y="3887640"/>
            <a:ext cx="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5907240" y="388584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8037360" y="3887640"/>
            <a:ext cx="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8001000" y="388584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7848720" y="5105160"/>
            <a:ext cx="30456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H="1" flipV="1">
            <a:off x="7848720" y="5105160"/>
            <a:ext cx="30456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8153280" y="51055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848720" y="51055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263600" y="40226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gby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321000" y="44798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gby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638680" y="40226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gby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7740720" y="44798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gby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3352680" y="5333760"/>
            <a:ext cx="7632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3308400" y="5333760"/>
            <a:ext cx="7632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Performance depends on size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graphicFrame>
        <p:nvGraphicFramePr>
          <p:cNvPr id="608" name=""/>
          <p:cNvGraphicFramePr/>
          <p:nvPr/>
        </p:nvGraphicFramePr>
        <p:xfrm>
          <a:off x="1565280" y="2749680"/>
          <a:ext cx="6546960" cy="2957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5280" y="2749680"/>
                    <a:ext cx="6546960" cy="29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Last price for a name quer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63532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SELECT last(price)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FROM   ticks t,base b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     ASSUMING ORDER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name,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imestamp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WHERE  t.ID=b.ID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     AND name=“x”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766920" y="239724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783120" y="312408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630480" y="396252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or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V="1">
            <a:off x="6781680" y="502884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H="1" flipV="1">
            <a:off x="6781320" y="502884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086600" y="502920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781680" y="502920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164000" y="563868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bas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020280" y="5638680"/>
            <a:ext cx="7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ick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V="1">
            <a:off x="6400800" y="5257800"/>
            <a:ext cx="304920" cy="3808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H="1" flipV="1">
            <a:off x="7162920" y="5334120"/>
            <a:ext cx="304560" cy="3808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6934320" y="4419720"/>
            <a:ext cx="0" cy="4572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V="1">
            <a:off x="6934320" y="358128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V="1">
            <a:off x="6934320" y="281952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084080" y="4973760"/>
            <a:ext cx="36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I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235280" y="4083120"/>
            <a:ext cx="1290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name,timesamp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071480" y="3200400"/>
            <a:ext cx="944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Name=“x”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068960" y="2514600"/>
            <a:ext cx="89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last(price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143000" y="4665600"/>
            <a:ext cx="3809880" cy="25560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406680" y="4606920"/>
            <a:ext cx="627120" cy="6426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ric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700000" y="4606920"/>
            <a:ext cx="616680" cy="6426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at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133720" y="4606920"/>
            <a:ext cx="476280" cy="611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66"/>
                </a:solidFill>
                <a:latin typeface="Arial Narrow"/>
              </a:rPr>
              <a:t>I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319760" y="460692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ck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095000" y="4606920"/>
            <a:ext cx="564840" cy="6426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752480" y="5545080"/>
            <a:ext cx="2362320" cy="24624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309840" y="5486400"/>
            <a:ext cx="720360" cy="6426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na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743200" y="5486400"/>
            <a:ext cx="476280" cy="611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66"/>
                </a:solidFill>
                <a:latin typeface="Arial Narrow"/>
              </a:rPr>
              <a:t>I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954440" y="5486400"/>
            <a:ext cx="6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bas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Last price for a name quer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47592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he sort on name can be eliminated because there will be only one nam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hen, push sor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ort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r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 r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ort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r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)   </a:t>
            </a:r>
            <a:r>
              <a:rPr b="0" lang="en-US" sz="2400" spc="-1" strike="noStrike" baseline="30000">
                <a:solidFill>
                  <a:srgbClr val="003366"/>
                </a:solidFill>
                <a:latin typeface="Times New Roman"/>
              </a:rPr>
              <a:t>lop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r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ort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r)  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766920" y="239724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316640" y="480060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630480" y="312408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or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6781680" y="419076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 flipV="1">
            <a:off x="6781320" y="419076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086600" y="41911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781680" y="41911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7164000" y="57150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bas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020280" y="4724280"/>
            <a:ext cx="7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ick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V="1">
            <a:off x="6400800" y="4419720"/>
            <a:ext cx="304920" cy="3808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 flipV="1">
            <a:off x="7162920" y="4495320"/>
            <a:ext cx="304560" cy="3812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6934320" y="3581280"/>
            <a:ext cx="0" cy="4572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V="1">
            <a:off x="6934320" y="281952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084080" y="4135320"/>
            <a:ext cx="36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I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235280" y="3244680"/>
            <a:ext cx="1290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name,timesamp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605000" y="4952880"/>
            <a:ext cx="944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Name=“x”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068960" y="2514600"/>
            <a:ext cx="89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last(price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V="1">
            <a:off x="7467480" y="5257800"/>
            <a:ext cx="0" cy="4572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422440" y="4994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V="1">
            <a:off x="7315200" y="3428640"/>
            <a:ext cx="228600" cy="2286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 flipV="1">
            <a:off x="7314840" y="3428640"/>
            <a:ext cx="228600" cy="2286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4572000" y="4267080"/>
            <a:ext cx="15228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 flipV="1">
            <a:off x="4571640" y="4267080"/>
            <a:ext cx="15228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724280" y="4267080"/>
            <a:ext cx="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572000" y="4267080"/>
            <a:ext cx="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V="1">
            <a:off x="2590920" y="4267080"/>
            <a:ext cx="15228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 flipV="1">
            <a:off x="2590560" y="4267080"/>
            <a:ext cx="15228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743200" y="4267080"/>
            <a:ext cx="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590920" y="4267080"/>
            <a:ext cx="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248520" y="3352680"/>
            <a:ext cx="304560" cy="1067040"/>
          </a:xfrm>
          <a:custGeom>
            <a:avLst/>
            <a:gdLst/>
            <a:ahLst/>
            <a:rect l="l" t="t" r="r" b="b"/>
            <a:pathLst>
              <a:path w="192" h="672">
                <a:moveTo>
                  <a:pt x="192" y="0"/>
                </a:moveTo>
                <a:cubicBezTo>
                  <a:pt x="96" y="112"/>
                  <a:pt x="0" y="224"/>
                  <a:pt x="0" y="336"/>
                </a:cubicBezTo>
                <a:cubicBezTo>
                  <a:pt x="0" y="448"/>
                  <a:pt x="96" y="560"/>
                  <a:pt x="192" y="672"/>
                </a:cubicBezTo>
              </a:path>
            </a:pathLst>
          </a:custGeom>
          <a:noFill/>
          <a:ln w="936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210360" y="4444920"/>
            <a:ext cx="266760" cy="355680"/>
          </a:xfrm>
          <a:custGeom>
            <a:avLst/>
            <a:gdLst/>
            <a:ahLst/>
            <a:rect l="l" t="t" r="r" b="b"/>
            <a:pathLst>
              <a:path w="168" h="224">
                <a:moveTo>
                  <a:pt x="168" y="32"/>
                </a:moveTo>
                <a:cubicBezTo>
                  <a:pt x="108" y="16"/>
                  <a:pt x="48" y="0"/>
                  <a:pt x="24" y="32"/>
                </a:cubicBezTo>
                <a:cubicBezTo>
                  <a:pt x="0" y="64"/>
                  <a:pt x="12" y="144"/>
                  <a:pt x="24" y="224"/>
                </a:cubicBezTo>
              </a:path>
            </a:pathLst>
          </a:custGeom>
          <a:noFill/>
          <a:ln w="936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Last price for a name quer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47592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he projection is carrying an implicit selection: last(price) = price[n], where n is the last index of the price arra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f(r.col[i])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r) 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order(r)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f(r.col)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pos()=i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r)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766920" y="239724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316640" y="394164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V="1">
            <a:off x="6781680" y="333180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flipV="1">
            <a:off x="6781320" y="333180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86600" y="333216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781680" y="333216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7164000" y="485604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bas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020280" y="3865680"/>
            <a:ext cx="7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ick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V="1">
            <a:off x="6400800" y="3560760"/>
            <a:ext cx="304920" cy="38088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H="1" flipV="1">
            <a:off x="7162920" y="3637080"/>
            <a:ext cx="304560" cy="3808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V="1">
            <a:off x="6934320" y="281952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7084080" y="3276720"/>
            <a:ext cx="36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I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7605000" y="4094280"/>
            <a:ext cx="944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Name=“x”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7068960" y="2514600"/>
            <a:ext cx="89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last(price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7467480" y="4398840"/>
            <a:ext cx="0" cy="4572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7088040" y="3048120"/>
            <a:ext cx="406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lop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564160" y="266688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V="1">
            <a:off x="5715000" y="236232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5848200" y="2743200"/>
            <a:ext cx="887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pos()=las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820840" y="2057400"/>
            <a:ext cx="53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563800" y="198108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324480" y="2158920"/>
            <a:ext cx="457200" cy="355680"/>
          </a:xfrm>
          <a:custGeom>
            <a:avLst/>
            <a:gdLst/>
            <a:ahLst/>
            <a:rect l="l" t="t" r="r" b="b"/>
            <a:pathLst>
              <a:path w="288" h="224">
                <a:moveTo>
                  <a:pt x="288" y="224"/>
                </a:moveTo>
                <a:cubicBezTo>
                  <a:pt x="288" y="144"/>
                  <a:pt x="288" y="64"/>
                  <a:pt x="240" y="32"/>
                </a:cubicBezTo>
                <a:cubicBezTo>
                  <a:pt x="192" y="0"/>
                  <a:pt x="96" y="16"/>
                  <a:pt x="0" y="32"/>
                </a:cubicBezTo>
              </a:path>
            </a:pathLst>
          </a:custGeom>
          <a:noFill/>
          <a:ln w="936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553080" y="2666880"/>
            <a:ext cx="266760" cy="228600"/>
          </a:xfrm>
          <a:custGeom>
            <a:avLst/>
            <a:gdLst/>
            <a:ahLst/>
            <a:rect l="l" t="t" r="r" b="b"/>
            <a:pathLst>
              <a:path w="168" h="144">
                <a:moveTo>
                  <a:pt x="144" y="0"/>
                </a:moveTo>
                <a:cubicBezTo>
                  <a:pt x="156" y="36"/>
                  <a:pt x="168" y="72"/>
                  <a:pt x="144" y="96"/>
                </a:cubicBezTo>
                <a:cubicBezTo>
                  <a:pt x="120" y="120"/>
                  <a:pt x="60" y="132"/>
                  <a:pt x="0" y="144"/>
                </a:cubicBezTo>
              </a:path>
            </a:pathLst>
          </a:custGeom>
          <a:noFill/>
          <a:ln w="936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Last price for a name quer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42130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But why join the entire relation if we are only using the last tuple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Can we somehow push the last selection down the join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766920" y="239724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7316640" y="480060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6781680" y="419076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 flipV="1">
            <a:off x="6781320" y="419076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7086600" y="41911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781680" y="41911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164000" y="57150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bas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020280" y="4724280"/>
            <a:ext cx="7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ick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V="1">
            <a:off x="6400800" y="4419720"/>
            <a:ext cx="304920" cy="38088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H="1" flipV="1">
            <a:off x="7162920" y="4495320"/>
            <a:ext cx="304560" cy="3812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V="1">
            <a:off x="6934320" y="358128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V="1">
            <a:off x="6934320" y="281952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7084080" y="4135320"/>
            <a:ext cx="36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I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7067160" y="3244680"/>
            <a:ext cx="887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pos()=las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605000" y="4952880"/>
            <a:ext cx="944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Name=“x”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039800" y="2514600"/>
            <a:ext cx="53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7467480" y="5257800"/>
            <a:ext cx="0" cy="4572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783120" y="312408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7088040" y="3930480"/>
            <a:ext cx="406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lop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Last price for a name quer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5072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We can take the last position of each ID on ticks to reduce cardinality, but we need to group by ticks.ID firs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But trading a join for a group by is usually a good deal?!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One more step: make this an “edge by”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766920" y="239724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7316640" y="480060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6781680" y="419076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H="1" flipV="1">
            <a:off x="6781320" y="419076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7086600" y="41911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781680" y="41911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164000" y="556272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bas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870880" y="6400800"/>
            <a:ext cx="7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ick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V="1">
            <a:off x="6400800" y="4419720"/>
            <a:ext cx="304920" cy="38088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H="1" flipV="1">
            <a:off x="7162920" y="4495320"/>
            <a:ext cx="304560" cy="3812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V="1">
            <a:off x="6934320" y="358128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6934320" y="281952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7084080" y="4135320"/>
            <a:ext cx="36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I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7034400" y="3244680"/>
            <a:ext cx="60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safet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7605000" y="4952880"/>
            <a:ext cx="944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Name=“x”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7039800" y="2514600"/>
            <a:ext cx="53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flipV="1">
            <a:off x="7543800" y="5257800"/>
            <a:ext cx="0" cy="4572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783120" y="312408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7088040" y="3930480"/>
            <a:ext cx="406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lop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V="1">
            <a:off x="6248520" y="518148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370200" y="4921200"/>
            <a:ext cx="887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pos()=las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097320" y="472428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945760" y="556272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Gb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481080" y="5683320"/>
            <a:ext cx="36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I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6248520" y="601992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351840" y="4692600"/>
            <a:ext cx="502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baseline="-25000">
                <a:solidFill>
                  <a:srgbClr val="003366"/>
                </a:solidFill>
                <a:latin typeface="Times New Roman"/>
              </a:rPr>
              <a:t>each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Performance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graphicFrame>
        <p:nvGraphicFramePr>
          <p:cNvPr id="748" name=""/>
          <p:cNvGraphicFramePr/>
          <p:nvPr/>
        </p:nvGraphicFramePr>
        <p:xfrm>
          <a:off x="1738440" y="2811600"/>
          <a:ext cx="5957640" cy="256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8440" y="2811600"/>
                    <a:ext cx="5957640" cy="25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Conclusion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Query declaratively incorporates order in a per-query basi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ny clause can rely on order; expressions can be order-dependen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Optimization possibilities are vast; performance improvements of an order of magnitud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pplications to Finance, Biology, Linguistics, ..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121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  <a:hlinkClick r:id="rId1"/>
              </a:rPr>
              <a:t>http://www.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  <a:hlinkClick r:id="rId2"/>
              </a:rPr>
              <a:t>cs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  <a:hlinkClick r:id="rId4"/>
              </a:rPr>
              <a:t>nyu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  <a:hlinkClick r:id="rId5"/>
              </a:rPr>
              <a:t>.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  <a:hlinkClick r:id="rId6"/>
              </a:rPr>
              <a:t>edu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  <a:hlinkClick r:id="rId7"/>
              </a:rPr>
              <a:t>/~lerner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for additional references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3-month moving average: </a:t>
            </a:r>
            <a:br>
              <a:rPr sz="4400"/>
            </a:b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the hard wa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844560" y="2327400"/>
            <a:ext cx="2432160" cy="1742760"/>
            <a:chOff x="844560" y="2327400"/>
            <a:chExt cx="2432160" cy="1742760"/>
          </a:xfrm>
        </p:grpSpPr>
        <p:sp>
          <p:nvSpPr>
            <p:cNvPr id="311" name=""/>
            <p:cNvSpPr/>
            <p:nvPr/>
          </p:nvSpPr>
          <p:spPr>
            <a:xfrm>
              <a:off x="844560" y="2327400"/>
              <a:ext cx="2432160" cy="3204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81080" y="2330280"/>
              <a:ext cx="622800" cy="17398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 </a:t>
              </a:r>
              <a:r>
                <a:rPr b="0" lang="pt-BR" sz="1600" spc="-1" strike="noStrike">
                  <a:solidFill>
                    <a:srgbClr val="003366"/>
                  </a:solidFill>
                  <a:latin typeface="Arial Narrow"/>
                </a:rPr>
                <a:t>sales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0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2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4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4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3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620440" y="2330280"/>
              <a:ext cx="650160" cy="17398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 </a:t>
              </a:r>
              <a:r>
                <a:rPr b="0" lang="pt-BR" sz="1600" spc="-1" strike="noStrike">
                  <a:solidFill>
                    <a:srgbClr val="003366"/>
                  </a:solidFill>
                  <a:latin typeface="Arial Narrow"/>
                </a:rPr>
                <a:t>3-avg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0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1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2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33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36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270440" y="2330280"/>
              <a:ext cx="695880" cy="17398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 </a:t>
              </a:r>
              <a:r>
                <a:rPr b="0" lang="pt-BR" sz="1600" spc="-1" strike="noStrike">
                  <a:solidFill>
                    <a:srgbClr val="003366"/>
                  </a:solidFill>
                  <a:latin typeface="Arial Narrow"/>
                </a:rPr>
                <a:t>month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2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3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4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5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3739320" y="2362320"/>
            <a:ext cx="533088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1.month,t1.sales,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(t1.sales+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CASE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WHEN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2.sales is null AN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3.sales is null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HEN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2*t1.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WHEN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2.sales is not null AN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3.sales is null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HEN t2.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+(t1.sales+t2.sales)/2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ELSE t2.sales + t3.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END) / 3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ales t1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LEFT OUTER JOIN Sales t2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ON t1.month – 1 = t2.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LEFT OUTER JOIN Sales t3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ON t1.month – 2 = t3.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82920" y="4343400"/>
            <a:ext cx="189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Garamond"/>
              </a:rPr>
              <a:t>Problems?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495720" y="2666880"/>
            <a:ext cx="8496000" cy="2572920"/>
            <a:chOff x="495720" y="2666880"/>
            <a:chExt cx="8496000" cy="2572920"/>
          </a:xfrm>
        </p:grpSpPr>
        <p:sp>
          <p:nvSpPr>
            <p:cNvPr id="318" name=""/>
            <p:cNvSpPr/>
            <p:nvPr/>
          </p:nvSpPr>
          <p:spPr>
            <a:xfrm>
              <a:off x="495720" y="4780080"/>
              <a:ext cx="319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3366"/>
                </a:buClr>
                <a:buFont typeface="Garamon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 “</a:t>
              </a: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Write-once” query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48320" y="2666880"/>
              <a:ext cx="4343400" cy="24386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551520" y="5105520"/>
            <a:ext cx="8440200" cy="1371600"/>
            <a:chOff x="551520" y="5105520"/>
            <a:chExt cx="8440200" cy="1371600"/>
          </a:xfrm>
        </p:grpSpPr>
        <p:sp>
          <p:nvSpPr>
            <p:cNvPr id="321" name=""/>
            <p:cNvSpPr/>
            <p:nvPr/>
          </p:nvSpPr>
          <p:spPr>
            <a:xfrm>
              <a:off x="4648320" y="5105520"/>
              <a:ext cx="4343400" cy="13716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51520" y="5181480"/>
              <a:ext cx="254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3366"/>
                </a:buClr>
                <a:buFont typeface="Garamon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 </a:t>
              </a: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Three way join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3-month moving average: </a:t>
            </a:r>
            <a:br>
              <a:rPr sz="4400"/>
            </a:b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the OLAP wa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844560" y="2327400"/>
            <a:ext cx="2432160" cy="1742760"/>
            <a:chOff x="844560" y="2327400"/>
            <a:chExt cx="2432160" cy="1742760"/>
          </a:xfrm>
        </p:grpSpPr>
        <p:sp>
          <p:nvSpPr>
            <p:cNvPr id="325" name=""/>
            <p:cNvSpPr/>
            <p:nvPr/>
          </p:nvSpPr>
          <p:spPr>
            <a:xfrm>
              <a:off x="844560" y="2327400"/>
              <a:ext cx="2432160" cy="3204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981080" y="2330280"/>
              <a:ext cx="622800" cy="17398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 </a:t>
              </a:r>
              <a:r>
                <a:rPr b="0" lang="pt-BR" sz="1600" spc="-1" strike="noStrike">
                  <a:solidFill>
                    <a:srgbClr val="003366"/>
                  </a:solidFill>
                  <a:latin typeface="Arial Narrow"/>
                </a:rPr>
                <a:t>sales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0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2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4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4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3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620440" y="2330280"/>
              <a:ext cx="650160" cy="17398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 </a:t>
              </a:r>
              <a:r>
                <a:rPr b="0" lang="pt-BR" sz="1600" spc="-1" strike="noStrike">
                  <a:solidFill>
                    <a:srgbClr val="003366"/>
                  </a:solidFill>
                  <a:latin typeface="Arial Narrow"/>
                </a:rPr>
                <a:t>3-avg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0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1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2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33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36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270440" y="2330280"/>
              <a:ext cx="695880" cy="17398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 </a:t>
              </a:r>
              <a:r>
                <a:rPr b="0" lang="pt-BR" sz="1600" spc="-1" strike="noStrike">
                  <a:solidFill>
                    <a:srgbClr val="003366"/>
                  </a:solidFill>
                  <a:latin typeface="Arial Narrow"/>
                </a:rPr>
                <a:t>month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2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3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4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5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3737880" y="2362320"/>
            <a:ext cx="51004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3090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month,sales,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3090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vg(sales) OVER (ORDER BY 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3090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ROWS BETWEEN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3090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2 PRECEDING AN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3090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CURRENT ROW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3090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591360" y="4038480"/>
            <a:ext cx="189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Garamond"/>
              </a:rPr>
              <a:t>Problems?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3536640" y="2590920"/>
            <a:ext cx="5378760" cy="3111840"/>
            <a:chOff x="3536640" y="2590920"/>
            <a:chExt cx="5378760" cy="3111840"/>
          </a:xfrm>
        </p:grpSpPr>
        <p:sp>
          <p:nvSpPr>
            <p:cNvPr id="332" name=""/>
            <p:cNvSpPr/>
            <p:nvPr/>
          </p:nvSpPr>
          <p:spPr>
            <a:xfrm>
              <a:off x="3536640" y="4511520"/>
              <a:ext cx="5354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3366"/>
                </a:buClr>
                <a:buFont typeface="Garamon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 </a:t>
              </a: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OVER construct  is confined to the </a:t>
              </a:r>
              <a:br>
                <a:rPr sz="2400"/>
              </a:b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SELECT clause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3366"/>
                </a:buClr>
                <a:buFont typeface="Garamon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 </a:t>
              </a: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Awkward syntax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172200" y="2590920"/>
              <a:ext cx="2743200" cy="12952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Network Management Quer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335" name=""/>
          <p:cNvSpPr/>
          <p:nvPr/>
        </p:nvSpPr>
        <p:spPr>
          <a:xfrm>
            <a:off x="809640" y="2214720"/>
            <a:ext cx="3610080" cy="38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Find duration and average length of packets of src-dst flows. A flow from src to dest ends after a 2-minute silenc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95480" y="4003560"/>
            <a:ext cx="3089160" cy="3016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618720" y="3995640"/>
            <a:ext cx="56484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575440" y="3995640"/>
            <a:ext cx="5130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092320" y="3995640"/>
            <a:ext cx="4762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166400" y="399564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acke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106440" y="3995640"/>
            <a:ext cx="5022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8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648320" y="2282760"/>
            <a:ext cx="449568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56664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WITH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Prec AS (src,dst,len,time,ptime)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(SELECT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src,dst,len,time,min(time) OVER w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 FROM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Packets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 WINDOW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w AS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(PARTITION BY src,dst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ORDER BY time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ROWS BETWEEN 1 PRECEDING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AND 1 PRECEEDING)),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Flow AS (src,dst,len,time,flag)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(SELECT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src,dst,len,time,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CASE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 WHEN time-ptime &gt; 120 THEN 1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 ELSE 0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 FROM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Prec),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FlowID AS (src,dst,len,time,f</a:t>
            </a:r>
            <a:r>
              <a:rPr b="0" lang="pt-BR" sz="1100" spc="-1" strike="noStrike">
                <a:solidFill>
                  <a:srgbClr val="003366"/>
                </a:solidFill>
                <a:latin typeface="Courier New"/>
              </a:rPr>
              <a:t>ID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)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(SELECT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src,dst,len,time,sum(f</a:t>
            </a:r>
            <a:r>
              <a:rPr b="0" lang="pt-BR" sz="1100" spc="-1" strike="noStrike">
                <a:solidFill>
                  <a:srgbClr val="003366"/>
                </a:solidFill>
                <a:latin typeface="Courier New"/>
              </a:rPr>
              <a:t>lag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) OVER w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 FROM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Flow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 WINDOW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w AS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(ORDER BY src,dst, time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ROWS UNBOUNDED PRECEDING)) 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src,dst,count(*),avg(len) 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FROM  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FlowID 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GROUP 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BY src,dst,fID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nter-tuple operations require joins or additional query constructs - or both!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Ordering can only be obtained in specific clauses (e.g., </a:t>
            </a: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SELECT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Bottom line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Queries become difficult to rea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Cost of execution is larger than necessary (optimization of nested queries is still an open problem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Order</a:t>
            </a: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 in SQL:1999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3366"/>
                </a:solidFill>
                <a:latin typeface="Garamond"/>
              </a:rPr>
              <a:t>Idea</a:t>
            </a:r>
            <a:endParaRPr b="0" lang="en-US" sz="47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Replace ordered tables (</a:t>
            </a: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arrables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) for tables in the data model (inspiration from KSQL by KX systems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Whatever can be done on a table can be done on an </a:t>
            </a:r>
            <a:r>
              <a:rPr b="0" i="1" lang="en-US" sz="2000" spc="-1" strike="noStrike">
                <a:solidFill>
                  <a:srgbClr val="003366"/>
                </a:solidFill>
                <a:latin typeface="Times New Roman"/>
              </a:rPr>
              <a:t>arrable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. Not vice-versa.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Define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order on a per-query basi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All query clauses can count on data ordering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Maintain SQL flavor (upward compatibility to SQL 92) while allowing expressions based on order with no additional language construct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Exploit optimization techniques involving orde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3366"/>
                </a:solidFill>
                <a:latin typeface="Times New Roman"/>
              </a:rPr>
              <a:t>That’s AQuery!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Moving average </a:t>
            </a:r>
            <a:br>
              <a:rPr sz="4400"/>
            </a:b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over Arrables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348" name=""/>
          <p:cNvSpPr/>
          <p:nvPr/>
        </p:nvSpPr>
        <p:spPr>
          <a:xfrm>
            <a:off x="844560" y="2376360"/>
            <a:ext cx="2741760" cy="25560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114280" y="2330280"/>
            <a:ext cx="62280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0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49040" y="2330280"/>
            <a:ext cx="65016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3-avg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0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1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3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6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70440" y="2330280"/>
            <a:ext cx="69588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894120" y="2362320"/>
            <a:ext cx="3644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month,avgs(3,sales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1676520" y="3789360"/>
            <a:ext cx="6652440" cy="934560"/>
            <a:chOff x="1676520" y="3789360"/>
            <a:chExt cx="6652440" cy="934560"/>
          </a:xfrm>
        </p:grpSpPr>
        <p:sp>
          <p:nvSpPr>
            <p:cNvPr id="354" name=""/>
            <p:cNvSpPr/>
            <p:nvPr/>
          </p:nvSpPr>
          <p:spPr>
            <a:xfrm flipH="1" flipV="1">
              <a:off x="1676520" y="4190760"/>
              <a:ext cx="304560" cy="533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1981080" y="4190760"/>
              <a:ext cx="304920" cy="533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1981080" y="4190760"/>
              <a:ext cx="1067040" cy="533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507480" y="3789360"/>
              <a:ext cx="48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3366"/>
                </a:buClr>
                <a:buFont typeface="Garamon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 </a:t>
              </a: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Arrable: a collection of named</a:t>
              </a:r>
              <a:br>
                <a:rPr sz="2400"/>
              </a:b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arrays, ordered by a column list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9T10:41:36Z</dcterms:created>
  <dc:creator>lerner</dc:creator>
  <dc:description/>
  <dc:language>en-US</dc:language>
  <cp:lastModifiedBy>dshasha</cp:lastModifiedBy>
  <dcterms:modified xsi:type="dcterms:W3CDTF">2004-10-13T20:46:22Z</dcterms:modified>
  <cp:revision>52</cp:revision>
  <dc:subject/>
  <dc:title>Challenge</dc:title>
</cp:coreProperties>
</file>