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8758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2718-2112-409A-AF39-73762DB52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3FBE-60F3-48A2-806A-7CFB1D3D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5868-B66A-453B-A318-E918F910B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A334-0A02-44EE-AC8B-D660E433A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9315-D857-4D03-BA98-2F36F2680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5C81-E016-4093-A7A2-D2574753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1276-1297-417B-97A1-021DE6C2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5D2B-EF9E-45EA-BFDA-74E7F269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8310-F6AC-40B9-AC7D-CDABEBA0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FEC1-BFC6-47B6-BB7F-EDF7A779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55C7-EE0E-42C0-839D-0C2E301C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B4CA-6599-4B48-9EA3-AA106484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5AA6-C24E-4062-9EAC-E0542B76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5D18-403D-4C0C-AA20-C638F2CE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1613-D882-496E-B00A-ED1DF436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C842-EE7E-4F1E-966B-09AF0A34D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0DB6-698C-490F-8754-9D9B8F6CA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05AA-47AB-46D3-A17D-1B7049FD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5AB7-3617-41BF-8FA7-C3D7E094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FEEB-F80D-43E5-B935-651C57A4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E017-38E4-49A3-8155-5B3F42DF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016C-CC0B-4D5E-B715-36D5CC2E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FFCF-B6CE-4690-B2C4-9E105C7F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7FDA-FB98-487F-899F-B76E16F8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72F2-8D3A-4840-892D-A2F245A69687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2843-024E-4472-A748-7D96D6DFDF7A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erner@cs.nyu.edu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cs.nyu.edu/~lerner" TargetMode="External"/><Relationship Id="rId2" Type="http://schemas.openxmlformats.org/officeDocument/2006/relationships/hyperlink" Target="http://www.cs.nyu.edu/~lerner" TargetMode="External"/><Relationship Id="rId3" Type="http://schemas.openxmlformats.org/officeDocument/2006/relationships/hyperlink" Target="http://www.cs.nyu.edu/~lerner" TargetMode="External"/><Relationship Id="rId4" Type="http://schemas.openxmlformats.org/officeDocument/2006/relationships/hyperlink" Target="http://www.cs.nyu.edu/~lerner" TargetMode="External"/><Relationship Id="rId5" Type="http://schemas.openxmlformats.org/officeDocument/2006/relationships/hyperlink" Target="http://www.cs.nyu.edu/~lerner" TargetMode="External"/><Relationship Id="rId6" Type="http://schemas.openxmlformats.org/officeDocument/2006/relationships/hyperlink" Target="http://www.cs.nyu.edu/~lerner" TargetMode="External"/><Relationship Id="rId7" Type="http://schemas.openxmlformats.org/officeDocument/2006/relationships/hyperlink" Target="http://www.cs.nyu.edu/~lerner" TargetMode="Externa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A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Q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uery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A D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atabase 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S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ystem for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O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rder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905120" y="34290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ennis Shash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Joint work with Alberto Lern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lerner@cs.nyu.edu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hasha@cs.nyu.edu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Moving average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ver Arrabl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59" name=""/>
          <p:cNvSpPr/>
          <p:nvPr/>
        </p:nvSpPr>
        <p:spPr>
          <a:xfrm>
            <a:off x="844560" y="2376360"/>
            <a:ext cx="274176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114280" y="2330280"/>
            <a:ext cx="62280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849040" y="2330280"/>
            <a:ext cx="65016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3-av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1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270440" y="2330280"/>
            <a:ext cx="69588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94120" y="2362320"/>
            <a:ext cx="36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avgs(3,sales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507480" y="3789360"/>
            <a:ext cx="48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ble: a collection of name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ys, ordered by a column li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489120" y="4587840"/>
            <a:ext cx="52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Each query defines data order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952880" y="2895480"/>
            <a:ext cx="259092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Moving average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ver Arrabl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68" name=""/>
          <p:cNvSpPr/>
          <p:nvPr/>
        </p:nvSpPr>
        <p:spPr>
          <a:xfrm>
            <a:off x="844560" y="2376360"/>
            <a:ext cx="274176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14280" y="2330280"/>
            <a:ext cx="62280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49040" y="2330280"/>
            <a:ext cx="65016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3-av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1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70440" y="2330280"/>
            <a:ext cx="69588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94120" y="2362320"/>
            <a:ext cx="36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avgs(3,sales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507480" y="3789360"/>
            <a:ext cx="48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ble: a collection of name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ys, ordered by a column li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89120" y="4587840"/>
            <a:ext cx="52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Each query defines data order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1720" y="5076720"/>
            <a:ext cx="520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Variables (e.g., month) are boun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to an array, as opposed to a valu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876920" y="2362320"/>
            <a:ext cx="83808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752480" y="2044800"/>
            <a:ext cx="3353040" cy="317520"/>
          </a:xfrm>
          <a:custGeom>
            <a:avLst/>
            <a:gdLst/>
            <a:ahLst/>
            <a:rect l="l" t="t" r="r" b="b"/>
            <a:pathLst>
              <a:path w="2112" h="200">
                <a:moveTo>
                  <a:pt x="2112" y="200"/>
                </a:moveTo>
                <a:cubicBezTo>
                  <a:pt x="1640" y="108"/>
                  <a:pt x="1168" y="16"/>
                  <a:pt x="816" y="8"/>
                </a:cubicBezTo>
                <a:cubicBezTo>
                  <a:pt x="464" y="0"/>
                  <a:pt x="232" y="76"/>
                  <a:pt x="0" y="15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2286000"/>
            <a:ext cx="761760" cy="1828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Moving average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ver Arrabl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80" name=""/>
          <p:cNvSpPr/>
          <p:nvPr/>
        </p:nvSpPr>
        <p:spPr>
          <a:xfrm>
            <a:off x="844560" y="2376360"/>
            <a:ext cx="274176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114280" y="2330280"/>
            <a:ext cx="62280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849040" y="2330280"/>
            <a:ext cx="65016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3-av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1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70440" y="2330280"/>
            <a:ext cx="69588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94120" y="2362320"/>
            <a:ext cx="36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avgs(3,sales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507480" y="3789360"/>
            <a:ext cx="48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ble: a collection of name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ys, ordered by a column li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489120" y="4587840"/>
            <a:ext cx="52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Each query defines data order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501720" y="5076720"/>
            <a:ext cx="520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Variables (e.g., month) are boun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to an array, as opposed to a valu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420000" y="5807160"/>
            <a:ext cx="586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Expression are mappings from arrays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to arra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638680" y="2362320"/>
            <a:ext cx="16765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Built-in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 Function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91" name=""/>
          <p:cNvSpPr/>
          <p:nvPr/>
        </p:nvSpPr>
        <p:spPr>
          <a:xfrm>
            <a:off x="2057400" y="2971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666880" y="2819520"/>
            <a:ext cx="243864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prev, nex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avgs, prds, sums, </a:t>
            </a:r>
            <a:r>
              <a:rPr b="0" lang="pt-BR" sz="1800" spc="-1" strike="noStrike">
                <a:solidFill>
                  <a:srgbClr val="003366"/>
                </a:solidFill>
                <a:latin typeface="Garamond"/>
              </a:rPr>
              <a:t>mins,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deltas, ratios, reverse,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…</a:t>
            </a: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05520" y="2819520"/>
            <a:ext cx="243828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drop, first, la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105520" y="4343400"/>
            <a:ext cx="243828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666880" y="4343400"/>
            <a:ext cx="243864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191240" y="331488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rder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pend</a:t>
            </a: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171080" y="473076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on order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pend</a:t>
            </a: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371400" y="213984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ze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preserving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60360" y="213984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on size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preserving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666880" y="4343400"/>
            <a:ext cx="243864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rank, </a:t>
            </a:r>
            <a:r>
              <a:rPr b="0" lang="pt-BR" sz="1800" spc="-1" strike="noStrike">
                <a:solidFill>
                  <a:srgbClr val="003366"/>
                </a:solidFill>
                <a:latin typeface="Garamond"/>
              </a:rPr>
              <a:t>n-</a:t>
            </a: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til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105520" y="4343400"/>
            <a:ext cx="243828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min, max, avg, coun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Emotiv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14440" y="5562720"/>
            <a:ext cx="712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price      </a:t>
            </a:r>
            <a:r>
              <a:rPr b="0" lang="en-US" sz="1300" spc="-1" strike="noStrike">
                <a:solidFill>
                  <a:srgbClr val="003366"/>
                </a:solidFill>
                <a:latin typeface="Courier New"/>
              </a:rPr>
              <a:t>15 19 16 17 15 13 5 8 7 13 11 14 10 5 2 </a:t>
            </a:r>
            <a:r>
              <a:rPr b="0" lang="pt-BR" sz="1300" spc="-1" strike="noStrike">
                <a:solidFill>
                  <a:srgbClr val="003366"/>
                </a:solidFill>
                <a:latin typeface="Courier New"/>
              </a:rPr>
              <a:t>5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2209680" y="3408480"/>
          <a:ext cx="4876920" cy="200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408480"/>
                    <a:ext cx="4876920" cy="20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455040" y="2265480"/>
            <a:ext cx="85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Find the best profit one could make by buying a stock an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selling it later in the same da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Emotiv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14440" y="5562360"/>
            <a:ext cx="7120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price      </a:t>
            </a:r>
            <a:r>
              <a:rPr b="0" lang="en-US" sz="1300" spc="-1" strike="noStrike">
                <a:solidFill>
                  <a:srgbClr val="003366"/>
                </a:solidFill>
                <a:latin typeface="Courier New"/>
              </a:rPr>
              <a:t>15 19 16 17 15 13 5 8 7 13 11 14 10 5 2 </a:t>
            </a:r>
            <a:r>
              <a:rPr b="0" lang="pt-BR" sz="1300" spc="-1" strike="noStrike">
                <a:solidFill>
                  <a:srgbClr val="003366"/>
                </a:solidFill>
                <a:latin typeface="Courier New"/>
              </a:rPr>
              <a:t>5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ins(price)</a:t>
            </a:r>
            <a:r>
              <a:rPr b="0" lang="pt-BR" sz="1300" spc="-1" strike="noStrike">
                <a:solidFill>
                  <a:srgbClr val="003366"/>
                </a:solidFill>
                <a:latin typeface="Courier New"/>
              </a:rPr>
              <a:t>15 15 15 15 15 13 5 5 5  5  5  5  5 5 2 2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0" lang="pt-BR" sz="1300" spc="-1" strike="noStrike">
                <a:solidFill>
                  <a:srgbClr val="003366"/>
                </a:solidFill>
                <a:latin typeface="Courier New"/>
              </a:rPr>
              <a:t>0  4  1  2  0  0  0 3 2  8  6  9  0 0 0 3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2286000" y="3352680"/>
          <a:ext cx="4853160" cy="199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352680"/>
                    <a:ext cx="4853160" cy="19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"/>
          <p:cNvSpPr/>
          <p:nvPr/>
        </p:nvSpPr>
        <p:spPr>
          <a:xfrm>
            <a:off x="1295280" y="6172200"/>
            <a:ext cx="66294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715000" y="5486400"/>
            <a:ext cx="38088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5040" y="2265480"/>
            <a:ext cx="85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Find the best profit one could make by buying a stock an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selling it later in the same da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Best-profit </a:t>
            </a: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Q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uery </a:t>
            </a: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C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omparison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0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[AQuery]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SELECT max(price–mins(price)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FROM   ticks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ASSUMING timestamp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WHERE  ID=“S”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AND  tradeDate=‘1/10/03'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67200" y="2214360"/>
            <a:ext cx="4276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[SQL:1999]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SELECT max(rdif)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FROM   (SELECT ID,tradeDate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price - min(price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OVER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(PARTITION BY ID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,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                  tradeDat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ORDER BY timestamp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ROWS UNBOUNDED 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PRECEDING) AS rdif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FROM   Ticks ) AS t1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WHERE   ID=“S”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AND   tradeDate=‘1/10/03'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066680" y="5105520"/>
            <a:ext cx="243864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3328" y="8827"/>
                </a:moveTo>
                <a:lnTo>
                  <a:pt x="22275" y="2492"/>
                </a:lnTo>
              </a:path>
              <a:path w="21600" h="21600">
                <a:moveTo>
                  <a:pt x="22275" y="0"/>
                </a:moveTo>
                <a:lnTo>
                  <a:pt x="22275" y="21600"/>
                </a:ln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Optimizer doesn’t</a:t>
            </a:r>
            <a:br>
              <a:rPr sz="1400"/>
            </a:b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push this selection. To get good performance, the query author has to rewrite it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Best-profit Query Performance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1600200" y="2357280"/>
          <a:ext cx="6705720" cy="334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357280"/>
                    <a:ext cx="670572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Complex queries: 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</a:t>
            </a:r>
            <a:br>
              <a:rPr sz="4000"/>
            </a:b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Revisited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Create a log of flow information. A flow from src to dest ends after a 2-minutes silen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724280" y="2421000"/>
            <a:ext cx="426744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017480" y="2362320"/>
            <a:ext cx="56484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e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332400" y="2362320"/>
            <a:ext cx="51300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715000" y="2362320"/>
            <a:ext cx="476280" cy="611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 Narrow"/>
              </a:rPr>
              <a:t>pI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74768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733520" y="2362320"/>
            <a:ext cx="45036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368560" y="2362320"/>
            <a:ext cx="56484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32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Motivation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The need for ordered data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eries in Finance, Biology, and Network Management depend on order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QL 99 has extensions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 –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 OLAP amendment – that incorporate order to the language but they are clumsy to us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40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724280" y="2421000"/>
            <a:ext cx="350532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50492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20280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58324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63176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ASSUMING ORDER src, dst, time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6556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54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deltas(time) &gt; 120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25268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63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sums (deltas(time) &gt; 120</a:t>
            </a:r>
            <a:r>
              <a:rPr b="0" lang="pt-BR" sz="16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25268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80816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73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25268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80816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447920" y="27432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447920" y="3276720"/>
            <a:ext cx="75960" cy="228600"/>
          </a:xfrm>
          <a:custGeom>
            <a:avLst/>
            <a:gdLst>
              <a:gd name="textAreaLeft" fmla="*/ 48600 w 75960"/>
              <a:gd name="textAreaRight" fmla="*/ 76320 w 759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447920" y="358128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86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GROUP  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447920" y="27432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447920" y="3276720"/>
            <a:ext cx="75960" cy="228600"/>
          </a:xfrm>
          <a:custGeom>
            <a:avLst/>
            <a:gdLst>
              <a:gd name="textAreaLeft" fmla="*/ 48600 w 75960"/>
              <a:gd name="textAreaRight" fmla="*/ 76320 w 759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447920" y="358128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952880" y="2421000"/>
            <a:ext cx="403884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766280" y="2362320"/>
            <a:ext cx="11134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,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,150,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766480" y="2362320"/>
            <a:ext cx="51300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46560" y="2362320"/>
            <a:ext cx="4762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417720" y="2362320"/>
            <a:ext cx="121716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,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,280,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02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SELECT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47920" y="27432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447920" y="3276720"/>
            <a:ext cx="75960" cy="228600"/>
          </a:xfrm>
          <a:custGeom>
            <a:avLst/>
            <a:gdLst>
              <a:gd name="textAreaLeft" fmla="*/ 48600 w 75960"/>
              <a:gd name="textAreaRight" fmla="*/ 76320 w 759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447920" y="358128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952880" y="2421000"/>
            <a:ext cx="403884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766280" y="2362320"/>
            <a:ext cx="11134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,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,150,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766480" y="2362320"/>
            <a:ext cx="51300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146560" y="2362320"/>
            <a:ext cx="4762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417720" y="2362320"/>
            <a:ext cx="121716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,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,280,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952880" y="3868560"/>
            <a:ext cx="4038840" cy="246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878600" y="3809880"/>
            <a:ext cx="88776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ount(*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766480" y="3809880"/>
            <a:ext cx="51300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146560" y="3809880"/>
            <a:ext cx="4762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550200" y="3809880"/>
            <a:ext cx="94896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avg(len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6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Performance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4005360" y="3343320"/>
          <a:ext cx="1135080" cy="16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05360" y="3343320"/>
                    <a:ext cx="1135080" cy="1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"/>
          <p:cNvGraphicFramePr/>
          <p:nvPr/>
        </p:nvGraphicFramePr>
        <p:xfrm>
          <a:off x="1633680" y="2428920"/>
          <a:ext cx="6111720" cy="3097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33680" y="2428920"/>
                    <a:ext cx="6111720" cy="30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rder-aware Query Languag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28" name=""/>
          <p:cNvSpPr/>
          <p:nvPr/>
        </p:nvSpPr>
        <p:spPr>
          <a:xfrm>
            <a:off x="10666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Relations,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quences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and ordered-rel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QL:1999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equin (Seshadri et al., 96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RQL (Ramakrishnan et al., 98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Grouping in SQL (Chatziantoniou and Ross, 96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rray query languag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QL (Libkin et al., 96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ML (Marathe and Salem, 97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aSQL (Widmann and Baumann, 98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KSQL (KX Systems) – our direct ancesto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Order-related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ptimization </a:t>
            </a: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T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echniqu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tarburst’s “glue” (Lohman 88) and Exodus/Volcano “Enforcers” (Graefe and McKeena, 93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B2 Order optimization (Simmens et al., 96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op-k query optimization (Carey and Kossman, 97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; Bruno,Chaudhuri, and Gravano 02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Hash-based order-preserving join (Claussen et al., 01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emporal query optimization addressing order and duplicates (Slivinskas et al., 01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AQuery Optimization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ptimization is cost bas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main strategies ar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efine the extent of the order-preserving region of the plan, considering (correctness, obviously, and) the performance of variation of operat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xploit algebraic equivalenc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pply efficient implementations of patterns of operators (e.g. “edge-by”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3-month moving average: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the wrong wa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844560" y="2327400"/>
            <a:ext cx="2432160" cy="1742760"/>
            <a:chOff x="844560" y="2327400"/>
            <a:chExt cx="2432160" cy="1742760"/>
          </a:xfrm>
        </p:grpSpPr>
        <p:sp>
          <p:nvSpPr>
            <p:cNvPr id="296" name=""/>
            <p:cNvSpPr/>
            <p:nvPr/>
          </p:nvSpPr>
          <p:spPr>
            <a:xfrm>
              <a:off x="844560" y="2327400"/>
              <a:ext cx="2432160" cy="320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981080" y="2330280"/>
              <a:ext cx="62280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sale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620440" y="2330280"/>
              <a:ext cx="65016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3-avg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1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6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70440" y="2330280"/>
              <a:ext cx="69588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month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3740040" y="2362320"/>
            <a:ext cx="4863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1.month,t1.sales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(t1.sales+t2.sales+t3.sales)/3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 t1, Sales t2, Sales t3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WHERE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1.month – 1 = t2.month A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1.month – 2 = t3.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91360" y="393372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Garamond"/>
              </a:rPr>
              <a:t>Problems?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219320" y="2743200"/>
            <a:ext cx="7320240" cy="2091600"/>
            <a:chOff x="1219320" y="2743200"/>
            <a:chExt cx="7320240" cy="2091600"/>
          </a:xfrm>
        </p:grpSpPr>
        <p:sp>
          <p:nvSpPr>
            <p:cNvPr id="303" name=""/>
            <p:cNvSpPr/>
            <p:nvPr/>
          </p:nvSpPr>
          <p:spPr>
            <a:xfrm flipV="1">
              <a:off x="1219320" y="2743200"/>
              <a:ext cx="220968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743200"/>
              <a:ext cx="220968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427560" y="4375080"/>
              <a:ext cx="511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Join eliminates first two months!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333240" y="2895480"/>
            <a:ext cx="6046200" cy="2654280"/>
            <a:chOff x="3333240" y="2895480"/>
            <a:chExt cx="6046200" cy="2654280"/>
          </a:xfrm>
        </p:grpSpPr>
        <p:sp>
          <p:nvSpPr>
            <p:cNvPr id="307" name=""/>
            <p:cNvSpPr/>
            <p:nvPr/>
          </p:nvSpPr>
          <p:spPr>
            <a:xfrm>
              <a:off x="4724280" y="2895480"/>
              <a:ext cx="3657600" cy="3049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33240" y="4724280"/>
              <a:ext cx="604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Do we really need a three-way join?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Can the optimizer make it linear-time?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762120" y="2192400"/>
            <a:ext cx="784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SELECT ts.ID, avgs(10, hq.ClosePrice)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FROM   TradedStocks AS ts NATURAL JOIN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      HistoricQuotes AS hq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      ASSUMING ORDER hq.TradeDate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GROUP  BY Id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Interchange sorting + order preserving operator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35" name=""/>
          <p:cNvSpPr/>
          <p:nvPr/>
        </p:nvSpPr>
        <p:spPr>
          <a:xfrm>
            <a:off x="528840" y="5764320"/>
            <a:ext cx="193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1) Sort then joi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preserving orde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417400" y="5780160"/>
            <a:ext cx="229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2) Preserve existing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orde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852800" y="5780160"/>
            <a:ext cx="191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3) Join then sor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before group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797120" y="5410080"/>
            <a:ext cx="7596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958680" y="5334120"/>
            <a:ext cx="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1339920" y="4876560"/>
            <a:ext cx="7596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103500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82720" y="5410080"/>
            <a:ext cx="7596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1644480" y="4876920"/>
            <a:ext cx="15264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1568520" y="441936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1568520" y="396216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3618000" y="48924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038480" y="5410080"/>
            <a:ext cx="7632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124080" y="5410080"/>
            <a:ext cx="7632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380988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5900760" y="490680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321600" y="5410080"/>
            <a:ext cx="7596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555948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407200" y="5410080"/>
            <a:ext cx="7596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flipV="1">
            <a:off x="6092640" y="5333760"/>
            <a:ext cx="7596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946920" y="5780160"/>
            <a:ext cx="191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4) Join then sor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fter group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7994520" y="490680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8415360" y="5410080"/>
            <a:ext cx="7632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765324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500960" y="5410080"/>
            <a:ext cx="7632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 flipV="1">
            <a:off x="818676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8001000" y="434304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372680" y="3581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35480" y="369900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vgs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482640" y="40384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761280" y="415620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vgs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768640" y="35053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047280" y="362268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vgs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826040" y="35053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104680" y="362268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vgs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14400" y="487692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638680" y="449568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696080" y="396252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1371600" y="457164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1371240" y="457164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676520" y="45720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371600" y="45720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1523880" y="441936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1523880" y="396216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1295280" y="48765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3581280" y="489096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3657600" y="44208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3621240" y="441936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3429000" y="51051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 flipV="1">
            <a:off x="3428640" y="51051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73392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42900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5715000" y="51051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5714640" y="51051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01992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71500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5943600" y="44208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5907240" y="441936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5943600" y="388764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5907240" y="388584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8037360" y="388764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8001000" y="388584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7848720" y="5105160"/>
            <a:ext cx="30456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 flipV="1">
            <a:off x="7848720" y="5105160"/>
            <a:ext cx="30456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15328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84872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263600" y="4022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321000" y="44798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638680" y="4022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740720" y="44798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335268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330840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Performance depends on size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1565280" y="2749680"/>
          <a:ext cx="6546960" cy="295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5280" y="2749680"/>
                    <a:ext cx="654696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63532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SELECT last(price)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FROM   ticks t,base b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ASSUMING ORDER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name,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imestamp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WHERE  t.ID=b.ID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AND name=“x”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783120" y="3124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630480" y="396252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6781680" y="502884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 flipV="1">
            <a:off x="6781320" y="502884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086600" y="50292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781680" y="50292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164000" y="56386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020280" y="56386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6400800" y="5257800"/>
            <a:ext cx="30492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7162920" y="5334120"/>
            <a:ext cx="30456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6934320" y="441972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6934320" y="358128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084080" y="497376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235280" y="4083120"/>
            <a:ext cx="129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,timesam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071480" y="320040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068960" y="2514600"/>
            <a:ext cx="8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ast(pric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143000" y="4665600"/>
            <a:ext cx="380988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406680" y="4606920"/>
            <a:ext cx="62712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ric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700000" y="4606920"/>
            <a:ext cx="61668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at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133720" y="4606920"/>
            <a:ext cx="476280" cy="611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 Narrow"/>
              </a:rPr>
              <a:t>I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319760" y="460692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ck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95000" y="4606920"/>
            <a:ext cx="56484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752480" y="5545080"/>
            <a:ext cx="2362320" cy="246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309840" y="5486400"/>
            <a:ext cx="72036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na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743200" y="5486400"/>
            <a:ext cx="476280" cy="611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 Narrow"/>
              </a:rPr>
              <a:t>I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954440" y="548640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bas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7592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sort on name can be eliminated because there will be only one nam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n, push sor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   </a:t>
            </a:r>
            <a:r>
              <a:rPr b="0" lang="en-US" sz="2400" spc="-1" strike="noStrike" baseline="30000">
                <a:solidFill>
                  <a:srgbClr val="003366"/>
                </a:solidFill>
                <a:latin typeface="Times New Roman"/>
              </a:rPr>
              <a:t>lop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) 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316640" y="48006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630480" y="31240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678168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 flipV="1">
            <a:off x="678132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08660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78168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164000" y="57150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020280" y="47242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6400800" y="4419720"/>
            <a:ext cx="30492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7162920" y="4495320"/>
            <a:ext cx="304560" cy="3812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6934320" y="358128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084080" y="41353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235280" y="3244680"/>
            <a:ext cx="129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,timesam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605000" y="495288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068960" y="2514600"/>
            <a:ext cx="8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ast(pric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7467480" y="525780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422440" y="499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7315200" y="3428640"/>
            <a:ext cx="22860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 flipV="1">
            <a:off x="7314840" y="3428640"/>
            <a:ext cx="22860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4572000" y="4267080"/>
            <a:ext cx="15228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 flipV="1">
            <a:off x="4571640" y="4267080"/>
            <a:ext cx="15228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724280" y="42670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572000" y="42670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2590920" y="4267080"/>
            <a:ext cx="15228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2590560" y="4267080"/>
            <a:ext cx="15228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743200" y="42670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590920" y="42670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3352680"/>
            <a:ext cx="304560" cy="1067040"/>
          </a:xfrm>
          <a:custGeom>
            <a:avLst/>
            <a:gdLst/>
            <a:ahLst/>
            <a:rect l="l" t="t" r="r" b="b"/>
            <a:pathLst>
              <a:path w="192" h="672">
                <a:moveTo>
                  <a:pt x="192" y="0"/>
                </a:moveTo>
                <a:cubicBezTo>
                  <a:pt x="96" y="112"/>
                  <a:pt x="0" y="224"/>
                  <a:pt x="0" y="336"/>
                </a:cubicBezTo>
                <a:cubicBezTo>
                  <a:pt x="0" y="448"/>
                  <a:pt x="96" y="560"/>
                  <a:pt x="192" y="672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210360" y="4444920"/>
            <a:ext cx="266760" cy="355680"/>
          </a:xfrm>
          <a:custGeom>
            <a:avLst/>
            <a:gdLst/>
            <a:ahLst/>
            <a:rect l="l" t="t" r="r" b="b"/>
            <a:pathLst>
              <a:path w="168" h="224">
                <a:moveTo>
                  <a:pt x="168" y="32"/>
                </a:moveTo>
                <a:cubicBezTo>
                  <a:pt x="108" y="16"/>
                  <a:pt x="48" y="0"/>
                  <a:pt x="24" y="32"/>
                </a:cubicBezTo>
                <a:cubicBezTo>
                  <a:pt x="0" y="64"/>
                  <a:pt x="12" y="144"/>
                  <a:pt x="24" y="224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7592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projection is carrying an implicit selection: last(price) = price[n], where n is the last index of the price arr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f(r.col[i])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)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order(r)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f(r.col)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os()=i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)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316640" y="394164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6781680" y="333180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flipV="1">
            <a:off x="6781320" y="333180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86600" y="333216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781680" y="333216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164000" y="485604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020280" y="38656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6400800" y="3560760"/>
            <a:ext cx="304920" cy="38088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7162920" y="3637080"/>
            <a:ext cx="30456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084080" y="32767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605000" y="409428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068960" y="2514600"/>
            <a:ext cx="8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ast(pric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7467480" y="439884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088040" y="3048120"/>
            <a:ext cx="40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o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564160" y="26668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5715000" y="23623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848200" y="2743200"/>
            <a:ext cx="88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os()=la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820840" y="2057400"/>
            <a:ext cx="53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563800" y="19810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324480" y="2158920"/>
            <a:ext cx="457200" cy="355680"/>
          </a:xfrm>
          <a:custGeom>
            <a:avLst/>
            <a:gdLst/>
            <a:ahLst/>
            <a:rect l="l" t="t" r="r" b="b"/>
            <a:pathLst>
              <a:path w="288" h="224">
                <a:moveTo>
                  <a:pt x="288" y="224"/>
                </a:moveTo>
                <a:cubicBezTo>
                  <a:pt x="288" y="144"/>
                  <a:pt x="288" y="64"/>
                  <a:pt x="240" y="32"/>
                </a:cubicBezTo>
                <a:cubicBezTo>
                  <a:pt x="192" y="0"/>
                  <a:pt x="96" y="16"/>
                  <a:pt x="0" y="32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553080" y="2666880"/>
            <a:ext cx="266760" cy="228600"/>
          </a:xfrm>
          <a:custGeom>
            <a:avLst/>
            <a:gdLst/>
            <a:ahLst/>
            <a:rect l="l" t="t" r="r" b="b"/>
            <a:pathLst>
              <a:path w="168" h="144">
                <a:moveTo>
                  <a:pt x="144" y="0"/>
                </a:moveTo>
                <a:cubicBezTo>
                  <a:pt x="156" y="36"/>
                  <a:pt x="168" y="72"/>
                  <a:pt x="144" y="96"/>
                </a:cubicBezTo>
                <a:cubicBezTo>
                  <a:pt x="120" y="120"/>
                  <a:pt x="60" y="132"/>
                  <a:pt x="0" y="144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42130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ut why join the entire relation if we are only using the last tuple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an we somehow push the last selection down the join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316640" y="48006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678168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 flipV="1">
            <a:off x="678132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08660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78168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164000" y="57150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020280" y="47242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6400800" y="4419720"/>
            <a:ext cx="304920" cy="38088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 flipV="1">
            <a:off x="7162920" y="4495320"/>
            <a:ext cx="304560" cy="3812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6934320" y="358128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084080" y="41353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067160" y="3244680"/>
            <a:ext cx="88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os()=la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05000" y="495288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039800" y="2514600"/>
            <a:ext cx="53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7467480" y="525780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783120" y="3124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088040" y="3930480"/>
            <a:ext cx="40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o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507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We can take the last position of each ID on ticks to reduce cardinality, but we need to group by ticks.ID firs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ut trading a join for a group by is usually a good deal?!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ne more step: make this an “edge by”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316640" y="48006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678168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 flipV="1">
            <a:off x="678132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8660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78168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164000" y="55627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870880" y="640080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6400800" y="4419720"/>
            <a:ext cx="304920" cy="38088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7162920" y="4495320"/>
            <a:ext cx="304560" cy="3812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6934320" y="358128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084080" y="41353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034400" y="324468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safet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605000" y="495288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039800" y="2514600"/>
            <a:ext cx="53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7543800" y="525780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783120" y="3124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088040" y="3930480"/>
            <a:ext cx="40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o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6248520" y="518148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370200" y="4921200"/>
            <a:ext cx="88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os()=la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97320" y="47242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945760" y="55627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481080" y="56833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6248520" y="60199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351840" y="4692600"/>
            <a:ext cx="502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baseline="-25000">
                <a:solidFill>
                  <a:srgbClr val="003366"/>
                </a:solidFill>
                <a:latin typeface="Times New Roman"/>
              </a:rPr>
              <a:t>eac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Performance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1738440" y="2811600"/>
          <a:ext cx="5957640" cy="256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8440" y="2811600"/>
                    <a:ext cx="595764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Conclusion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Query declaratively incorporates order in a per-query basi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ny clause can rely on order; expressions can be order-depend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ptimization possibilities are vast; performance improvements of an order of magnitud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pplications to Finance, Biology, Linguistics, ..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cs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4"/>
              </a:rPr>
              <a:t>nyu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6"/>
              </a:rPr>
              <a:t>edu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7"/>
              </a:rPr>
              <a:t>/~lerner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for additional reference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3-month moving average: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the hard wa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844560" y="2327400"/>
            <a:ext cx="2432160" cy="1742760"/>
            <a:chOff x="844560" y="2327400"/>
            <a:chExt cx="2432160" cy="1742760"/>
          </a:xfrm>
        </p:grpSpPr>
        <p:sp>
          <p:nvSpPr>
            <p:cNvPr id="311" name=""/>
            <p:cNvSpPr/>
            <p:nvPr/>
          </p:nvSpPr>
          <p:spPr>
            <a:xfrm>
              <a:off x="844560" y="2327400"/>
              <a:ext cx="2432160" cy="320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81080" y="2330280"/>
              <a:ext cx="62280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sale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20440" y="2330280"/>
              <a:ext cx="65016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3-avg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1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6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70440" y="2330280"/>
              <a:ext cx="69588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month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3739320" y="2362320"/>
            <a:ext cx="533088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1.month,t1.sales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(t1.sales+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CASE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WHEN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2.sales is null A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3.sales is nul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HEN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2*t1.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WHEN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2.sales is not null A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3.sales is nul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HEN t2.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+(t1.sales+t2.sales)/2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ELSE t2.sales + t3.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END) / 3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 t1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LEFT OUTER JOIN Sales t2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ON t1.month – 1 = t2.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LEFT OUTER JOIN Sales t3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ON t1.month – 2 = t3.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2920" y="434340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Garamond"/>
              </a:rPr>
              <a:t>Problems?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495720" y="2666880"/>
            <a:ext cx="8496000" cy="2572920"/>
            <a:chOff x="495720" y="2666880"/>
            <a:chExt cx="8496000" cy="2572920"/>
          </a:xfrm>
        </p:grpSpPr>
        <p:sp>
          <p:nvSpPr>
            <p:cNvPr id="318" name=""/>
            <p:cNvSpPr/>
            <p:nvPr/>
          </p:nvSpPr>
          <p:spPr>
            <a:xfrm>
              <a:off x="495720" y="4780080"/>
              <a:ext cx="319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“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Write-once” query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8320" y="2666880"/>
              <a:ext cx="4343400" cy="24386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551520" y="5105520"/>
            <a:ext cx="8440200" cy="1371600"/>
            <a:chOff x="551520" y="5105520"/>
            <a:chExt cx="8440200" cy="1371600"/>
          </a:xfrm>
        </p:grpSpPr>
        <p:sp>
          <p:nvSpPr>
            <p:cNvPr id="321" name=""/>
            <p:cNvSpPr/>
            <p:nvPr/>
          </p:nvSpPr>
          <p:spPr>
            <a:xfrm>
              <a:off x="4648320" y="5105520"/>
              <a:ext cx="4343400" cy="13716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1520" y="5181480"/>
              <a:ext cx="25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Three way join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3-month moving average: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the OLAP wa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844560" y="2327400"/>
            <a:ext cx="2432160" cy="1742760"/>
            <a:chOff x="844560" y="2327400"/>
            <a:chExt cx="2432160" cy="1742760"/>
          </a:xfrm>
        </p:grpSpPr>
        <p:sp>
          <p:nvSpPr>
            <p:cNvPr id="325" name=""/>
            <p:cNvSpPr/>
            <p:nvPr/>
          </p:nvSpPr>
          <p:spPr>
            <a:xfrm>
              <a:off x="844560" y="2327400"/>
              <a:ext cx="2432160" cy="320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981080" y="2330280"/>
              <a:ext cx="62280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sale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0440" y="2330280"/>
              <a:ext cx="65016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3-avg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1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6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70440" y="2330280"/>
              <a:ext cx="69588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month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3737880" y="2362320"/>
            <a:ext cx="5100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sales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vg(sales) OVER (ORDER BY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ROWS BETWEE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2 PRECEDING A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CURRENT ROW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591360" y="403848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Garamond"/>
              </a:rPr>
              <a:t>Problems?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536640" y="2590920"/>
            <a:ext cx="5378760" cy="3111840"/>
            <a:chOff x="3536640" y="2590920"/>
            <a:chExt cx="5378760" cy="3111840"/>
          </a:xfrm>
        </p:grpSpPr>
        <p:sp>
          <p:nvSpPr>
            <p:cNvPr id="332" name=""/>
            <p:cNvSpPr/>
            <p:nvPr/>
          </p:nvSpPr>
          <p:spPr>
            <a:xfrm>
              <a:off x="3536640" y="4511520"/>
              <a:ext cx="5354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OVER construct  is confined to the </a:t>
              </a:r>
              <a:br>
                <a:rPr sz="2400"/>
              </a:b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SELECT claus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Awkward syntax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172200" y="2590920"/>
              <a:ext cx="2743200" cy="12952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35" name=""/>
          <p:cNvSpPr/>
          <p:nvPr/>
        </p:nvSpPr>
        <p:spPr>
          <a:xfrm>
            <a:off x="809640" y="2214720"/>
            <a:ext cx="361008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Find duration and average length of packets of src-dst flows. A flow from src to dest ends after a 2-minute silenc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95480" y="4003560"/>
            <a:ext cx="3089160" cy="3016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18720" y="399564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75440" y="399564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92320" y="399564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166400" y="399564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06440" y="399564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648320" y="2282760"/>
            <a:ext cx="449568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56664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WITH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Prec AS (src,dst,len,time,ptime)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(SELECT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rc,dst,len,time,min(time) OVER w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FROM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Packets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WINDOW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w AS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(PARTITION BY src,dst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ORDER BY time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ROWS BETWEEN 1 PRECEDING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AND 1 PRECEEDING)),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Flow AS (src,dst,len,time,flag)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(SELECT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rc,dst,len,time,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CASE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WHEN time-ptime &gt; 120 THEN 1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ELSE 0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FROM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Prec),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FlowID AS (src,dst,len,time,f</a:t>
            </a:r>
            <a:r>
              <a:rPr b="0" lang="pt-BR" sz="1100" spc="-1" strike="noStrike">
                <a:solidFill>
                  <a:srgbClr val="003366"/>
                </a:solidFill>
                <a:latin typeface="Courier New"/>
              </a:rPr>
              <a:t>ID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)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(SELECT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rc,dst,len,time,sum(f</a:t>
            </a:r>
            <a:r>
              <a:rPr b="0" lang="pt-BR" sz="1100" spc="-1" strike="noStrike">
                <a:solidFill>
                  <a:srgbClr val="003366"/>
                </a:solidFill>
                <a:latin typeface="Courier New"/>
              </a:rPr>
              <a:t>lag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) OVER w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FROM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Flow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WINDOW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w AS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(ORDER BY src,dst, time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ROWS UNBOUNDED PRECEDING)) 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rc,dst,count(*),avg(len) 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FROM  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FlowID 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GROUP 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BY src,dst,fID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ter-tuple operations require joins or additional query constructs - or both!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rdering can only be obtained in specific clauses (e.g., 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ottom lin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Queries become difficult to rea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st of execution is larger than necessary (optimization of nested queries is still an open problem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Order</a:t>
            </a: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 in SQL:1999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3366"/>
                </a:solidFill>
                <a:latin typeface="Garamond"/>
              </a:rPr>
              <a:t>Idea</a:t>
            </a:r>
            <a:endParaRPr b="0" lang="en-US" sz="47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place ordered tables (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arrable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 for tables in the data model (inspiration from KSQL by KX system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Whatever can be done on a table can be done on an </a:t>
            </a:r>
            <a:r>
              <a:rPr b="0" i="1" lang="en-US" sz="2000" spc="-1" strike="noStrike">
                <a:solidFill>
                  <a:srgbClr val="003366"/>
                </a:solidFill>
                <a:latin typeface="Times New Roman"/>
              </a:rPr>
              <a:t>arrable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. Not vice-versa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Define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order on a per-query basi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All query clauses can count on data order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aintain SQL flavor (upward compatibility to SQL 92) while allowing expressions based on order with no additional language construc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xploit optimization techniques involving ord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Times New Roman"/>
              </a:rPr>
              <a:t>That’s AQuery!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Moving average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ver Arrabl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48" name=""/>
          <p:cNvSpPr/>
          <p:nvPr/>
        </p:nvSpPr>
        <p:spPr>
          <a:xfrm>
            <a:off x="844560" y="2376360"/>
            <a:ext cx="274176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114280" y="2330280"/>
            <a:ext cx="62280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49040" y="2330280"/>
            <a:ext cx="65016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3-av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1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70440" y="2330280"/>
            <a:ext cx="69588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94120" y="2362320"/>
            <a:ext cx="36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avgs(3,sales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676520" y="3789360"/>
            <a:ext cx="6652440" cy="934560"/>
            <a:chOff x="1676520" y="3789360"/>
            <a:chExt cx="6652440" cy="934560"/>
          </a:xfrm>
        </p:grpSpPr>
        <p:sp>
          <p:nvSpPr>
            <p:cNvPr id="354" name=""/>
            <p:cNvSpPr/>
            <p:nvPr/>
          </p:nvSpPr>
          <p:spPr>
            <a:xfrm flipH="1" flipV="1">
              <a:off x="1676520" y="4190760"/>
              <a:ext cx="30456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1981080" y="4190760"/>
              <a:ext cx="30492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1981080" y="4190760"/>
              <a:ext cx="106704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507480" y="3789360"/>
              <a:ext cx="48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Arrable: a collection of named</a:t>
              </a:r>
              <a:br>
                <a:rPr sz="2400"/>
              </a:b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arrays, ordered by a column list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10:41:36Z</dcterms:created>
  <dc:creator>lerner</dc:creator>
  <dc:description/>
  <dc:language>en-US</dc:language>
  <cp:lastModifiedBy>dshasha</cp:lastModifiedBy>
  <dcterms:modified xsi:type="dcterms:W3CDTF">2004-10-13T20:46:22Z</dcterms:modified>
  <cp:revision>52</cp:revision>
  <dc:subject/>
  <dc:title>Challenge</dc:title>
</cp:coreProperties>
</file>