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CB4988-68EA-4FC1-871A-CC7EAB0859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25C5C7-2B39-452D-9333-53259F5764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33083B-449C-4820-A8FC-C2B9C8A6A3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5F114C-7EF4-4253-A6DD-2DCAD8C071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7C1E49-D36E-4DC4-B11A-7AB3D3B79F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A4CAFA-9A0B-4C2E-B702-363F65285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D90EEF-4B93-480F-9BCF-1DBBAEF04C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40A3C1-BE60-4BD1-9D88-960C33BBB3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2C3ED7-52D9-4FFE-81D3-84E7D0EA3F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AF941-6C9F-4313-8041-780D3A6150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86472-C36B-4A24-A493-1E439FD48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11EFC-0B42-4B92-A0C1-2A4B9B3F57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F3DFC3-AE2C-426C-AF50-BAAB7F08D1BA}"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8A3651-F5F4-400E-89C8-F787148C87C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s://qap.sdsu.edu/screening/breastcancer/facts.html" TargetMode="Externa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tatistics is Eas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ennis Shasha</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From a book co-written with Manda Wils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ampling/Shuffle Approach</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reate a table that associates each outcome with the label D (drug) or P (placebo). Here is the beginning of such a ta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graphicFrame>
        <p:nvGraphicFramePr>
          <p:cNvPr id="62" name=""/>
          <p:cNvGraphicFramePr/>
          <p:nvPr/>
        </p:nvGraphicFramePr>
        <p:xfrm>
          <a:off x="1139760" y="3440160"/>
          <a:ext cx="6096240" cy="743040"/>
        </p:xfrm>
        <a:graphic>
          <a:graphicData uri="http://schemas.openxmlformats.org/drawingml/2006/table">
            <a:tbl>
              <a:tblPr/>
              <a:tblGrid>
                <a:gridCol w="1219320"/>
                <a:gridCol w="1219320"/>
                <a:gridCol w="1218960"/>
                <a:gridCol w="1219320"/>
                <a:gridCol w="121932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4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7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the Table</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we take the table as given, then of course the entries associated with D have an average value of 63.7 and the placebo entries have average 50.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now consider shuffling the labels among the entries. That causes a total loss of the connection between treatment and improv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Does Shuffling Do?</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null hypothesis is that the drug will have no greater effect than the placebo and therefore that the apparent effect we see is just due to chance (i.e. due to the individual characteristics of the people who received the drug).</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f that is so, then quite often, any 10-person subset of the experimental subjects will have an average benefit of 13 or more than some other 10-person subset of the experimental subject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at</a:t>
            </a:r>
            <a:r>
              <a:rPr b="0" lang="ja-JP" sz="2800" spc="-1" strike="noStrike">
                <a:solidFill>
                  <a:srgbClr val="000000"/>
                </a:solidFill>
                <a:latin typeface="Calibri"/>
              </a:rPr>
              <a:t>’</a:t>
            </a:r>
            <a:r>
              <a:rPr b="0" lang="en-US" sz="2800" spc="-1" strike="noStrike">
                <a:solidFill>
                  <a:srgbClr val="000000"/>
                </a:solidFill>
                <a:latin typeface="Calibri"/>
              </a:rPr>
              <a:t>s what shuffling simulat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stablishing Significance</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f, after shuffling, the average of the values of the Drug entries is often (say more than 15% of the time) greater than the average of the values of the Placebo values by 63.7-50.7, then the apparent effectiveness of the drug in the experiment could be entirely due to chanc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f very uncommon, then the drug may be doing something.</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n this case p-value is 0.1%.</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Different numbers give different results</a:t>
            </a:r>
            <a:endParaRPr b="0" lang="en-US" sz="40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cebo: 56, 348, 162, 420, 440, 250, 389, 476, 288, 45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ug: 69, 361, 175, 433, 453, 263, 402, 489, 301, 469.</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 difference in averages is still 13, but now the p-value is about 40%. Could easily be due to cha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ignificance vs. Importance</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that we try a different drug/placebo experiment on 1 million patients and the drug increases life by 5 years and 3 days whereas the placebo increases life by 5 years alon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might, because of the large sample size, give a low p-value (thus statistically significa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is it important? Do we care? Please ask this ques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nfidence Interval</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fidence interval is the range of values a measurement is likely to take.</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the case of our first drug/placebo experiment, the difference of the average effect was about 13 (63.7 – 50.7).</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we say what this difference of the averages will be in 90% of the measurements we are likely to make? (90% </a:t>
            </a:r>
            <a:r>
              <a:rPr b="0" lang="ja-JP" sz="3200" spc="-1" strike="noStrike">
                <a:solidFill>
                  <a:srgbClr val="000000"/>
                </a:solidFill>
                <a:latin typeface="Calibri"/>
              </a:rPr>
              <a:t>“</a:t>
            </a:r>
            <a:r>
              <a:rPr b="0" lang="en-US" sz="3200" spc="-1" strike="noStrike">
                <a:solidFill>
                  <a:srgbClr val="000000"/>
                </a:solidFill>
                <a:latin typeface="Calibri"/>
              </a:rPr>
              <a:t>confidence interval</a:t>
            </a:r>
            <a:r>
              <a:rPr b="0" lang="ja-JP" sz="3200" spc="-1" strike="noStrike">
                <a:solidFill>
                  <a:srgbClr val="000000"/>
                </a:solidFill>
                <a:latin typeface="Calibri"/>
              </a:rPr>
              <a:t>”</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ootstrapping Procedure</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000 times, create a sample uniformly randomly with replacement of the drug values and separately the placebo values (keeping the labels) and then evaluate the difference of the aver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these differences. The 90% confidence interval falls between the 500</a:t>
            </a:r>
            <a:r>
              <a:rPr b="0" lang="en-US" sz="3200" spc="-1" strike="noStrike" baseline="30000">
                <a:solidFill>
                  <a:srgbClr val="000000"/>
                </a:solidFill>
                <a:latin typeface="Calibri"/>
              </a:rPr>
              <a:t>th</a:t>
            </a:r>
            <a:r>
              <a:rPr b="0" lang="en-US" sz="3200" spc="-1" strike="noStrike">
                <a:solidFill>
                  <a:srgbClr val="000000"/>
                </a:solidFill>
                <a:latin typeface="Calibri"/>
              </a:rPr>
              <a:t> difference and the 9,500</a:t>
            </a:r>
            <a:r>
              <a:rPr b="0" lang="en-US" sz="3200" spc="-1" strike="noStrike" baseline="30000">
                <a:solidFill>
                  <a:srgbClr val="000000"/>
                </a:solidFill>
                <a:latin typeface="Calibri"/>
              </a:rPr>
              <a:t>th</a:t>
            </a:r>
            <a:r>
              <a:rPr b="0" lang="en-US" sz="3200" spc="-1" strike="noStrike">
                <a:solidFill>
                  <a:srgbClr val="000000"/>
                </a:solidFill>
                <a:latin typeface="Calibri"/>
              </a:rPr>
              <a:t> difference in the sorted li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Example of Uniform Random with Replacement</a:t>
            </a:r>
            <a:endParaRPr b="0" lang="en-US" sz="40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iginal placebo values were: </a:t>
            </a:r>
            <a:br>
              <a:rPr sz="3200"/>
            </a:br>
            <a:r>
              <a:rPr b="0" lang="en-US" sz="3200" spc="-1" strike="noStrike">
                <a:solidFill>
                  <a:srgbClr val="000000"/>
                </a:solidFill>
                <a:latin typeface="Calibri"/>
              </a:rPr>
              <a:t>54, 51, 58, 44, 55, 52, 42, 47, 58, 46</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 one uniform random sample with replacement might be:</a:t>
            </a:r>
            <a:br>
              <a:rPr sz="3200"/>
            </a:br>
            <a:r>
              <a:rPr b="0" lang="en-US" sz="3200" spc="-1" strike="noStrike">
                <a:solidFill>
                  <a:srgbClr val="000000"/>
                </a:solidFill>
                <a:latin typeface="Calibri"/>
              </a:rPr>
              <a:t>55, 54, 51, 47, 55, 47, 54, 46, 54, 54</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te that some values are repeated and some are miss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fference in the averages yields a range of 7.81 to 18.11 for 90% confidence interv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 different example…</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the difference of the averages of the 10,000 samples. Order them from lowest to highest. Suppose that -.4 is the 10</a:t>
            </a:r>
            <a:r>
              <a:rPr b="0" lang="en-US" sz="3200" spc="-1" strike="noStrike" baseline="30000">
                <a:solidFill>
                  <a:srgbClr val="000000"/>
                </a:solidFill>
                <a:latin typeface="Calibri"/>
              </a:rPr>
              <a:t>th</a:t>
            </a:r>
            <a:r>
              <a:rPr b="0" lang="en-US" sz="3200" spc="-1" strike="noStrike">
                <a:solidFill>
                  <a:srgbClr val="000000"/>
                </a:solidFill>
                <a:latin typeface="Calibri"/>
              </a:rPr>
              <a:t> percentile and 8.1 is the 90% percentile value so the 80% confidence interval is -.4 to 8.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2.1, </a:t>
            </a:r>
            <a:r>
              <a:rPr b="1" lang="en-US" sz="3200" spc="-1" strike="noStrike">
                <a:solidFill>
                  <a:srgbClr val="000000"/>
                </a:solidFill>
                <a:latin typeface="Calibri"/>
              </a:rPr>
              <a:t>-.4</a:t>
            </a:r>
            <a:r>
              <a:rPr b="0" lang="en-US" sz="3200" spc="-1" strike="noStrike">
                <a:solidFill>
                  <a:srgbClr val="000000"/>
                </a:solidFill>
                <a:latin typeface="Calibri"/>
              </a:rPr>
              <a:t>, 1.1, 2.2, 3.3, 4.2, 5.2, 6.4, </a:t>
            </a:r>
            <a:r>
              <a:rPr b="1" lang="en-US" sz="3200" spc="-1" strike="noStrike">
                <a:solidFill>
                  <a:srgbClr val="000000"/>
                </a:solidFill>
                <a:latin typeface="Calibri"/>
              </a:rPr>
              <a:t>8.1</a:t>
            </a:r>
            <a:r>
              <a:rPr b="0" lang="en-US" sz="3200" spc="-1" strike="noStrike">
                <a:solidFill>
                  <a:srgbClr val="000000"/>
                </a:solidFill>
                <a:latin typeface="Calibri"/>
              </a:rPr>
              <a:t>, 10.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liminary Remark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ability theory: given individual probabilities (e.g. for a die, p(2) = 1/6), find compound probabilities (e.g. for a pair of dice, p(7) = 6/3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tistics: given data, try to find probabilities of a null hypothesis and therefore get some hint about an alternative hypothes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Methods</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milar in spirit to bootstraps, but instead of resampling from a single sample, resample from some sim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asic scheme: simulate a lot of times. Count perhaps with weight each outco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sed in physics when good simulation model. In finance for interest rate models et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Example</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assic: A circle inscribed in a square has an area of pi*r*r whereas the circumscribing square has area of 4*r*r. So the ratio is pi/4.</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stimate pi by dropping points in the square and counting how many lie  within circ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at proportion should be pi/4, so get an estimate of p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Example 2</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nance: what is the expected value and 90% confidence interval of a portfolio, given a probability distribution on inflation, interest rates, technology advances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ny times, set each of these parameters based on the probability distribution and look at retur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results to get 90% confidence interv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cial vs. Natural</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nfidence intervals tend to vary more for social/cultural phenomena than natural ones:  people’s weights vary by a factor of maybe 20, but incomes can vary by a factor of 1000 or more.</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ore important: in human affairs, past behavior is a bad predictor of future behavior (e.g. German Mark vs. Dollar in the early 1920s).</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e Nassim Taleb’s book: </a:t>
            </a:r>
            <a:r>
              <a:rPr b="0" i="1" lang="en-US" sz="3000" spc="-1" strike="noStrike">
                <a:solidFill>
                  <a:srgbClr val="000000"/>
                </a:solidFill>
                <a:latin typeface="Calibri"/>
              </a:rPr>
              <a:t>The Black Swan</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en-US" sz="3000" spc="-1" strike="noStrike">
                <a:solidFill>
                  <a:srgbClr val="000000"/>
                </a:solidFill>
                <a:latin typeface="Calibri"/>
              </a:rPr>
              <a:t>Absence of evidence is different from evidence of absenc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Questions for You</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know the confidence interval, does significance bring anything to the pa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bootstrapping be used to find the maximum value you are likely to see in an underlying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es bootstapping/shuffling help when a sample is not represent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1</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know the confidence interval, does significance bring anything to the pa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sider single drug value 66 and single placebo value 53. What will bootstrapping do? What will shuffling d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fact, first check whether the p-value is small, before measuring the confidence interv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2</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bootstrapping be used to find the maximum value you are likely to see in an underlying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finitely not. Take 1000 people at random. Very unlikely that Warren Buffet or Bill Gates is among them. Would never be able to find maximum wealth in country from those 1000 using bootstrapp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3</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es bootstapping/shuffling help when a sample is not represent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t doesnt. If there is any selection bias, a study</a:t>
            </a:r>
            <a:r>
              <a:rPr b="0" lang="ja-JP" sz="3200" spc="-1" strike="noStrike">
                <a:solidFill>
                  <a:srgbClr val="000000"/>
                </a:solidFill>
                <a:latin typeface="Calibri"/>
              </a:rPr>
              <a:t>’</a:t>
            </a:r>
            <a:r>
              <a:rPr b="0" lang="en-US" sz="3200" spc="-1" strike="noStrike">
                <a:solidFill>
                  <a:srgbClr val="000000"/>
                </a:solidFill>
                <a:latin typeface="Calibri"/>
              </a:rPr>
              <a:t>s conclusion may be totally wrong. Example: age of death is highest in Monaco and Andorra. Is the diet so much better? Are people so much more fi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rther Reading</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ur book </a:t>
            </a:r>
            <a:r>
              <a:rPr b="0" i="1" lang="en-US" sz="3200" spc="-1" strike="noStrike">
                <a:solidFill>
                  <a:srgbClr val="000000"/>
                </a:solidFill>
                <a:latin typeface="Calibri"/>
              </a:rPr>
              <a:t>Statistics is Easy </a:t>
            </a:r>
            <a:r>
              <a:rPr b="0" lang="en-US" sz="3200" spc="-1" strike="noStrike">
                <a:solidFill>
                  <a:srgbClr val="000000"/>
                </a:solidFill>
                <a:latin typeface="Calibri"/>
              </a:rPr>
              <a:t>goes on to discuss the most important statistical topics: mean, difference between means, chi-squared tests, statistical power, fisher exact test, anova, regression, correlation, and multiple testing, all from the point of view of resampl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ithout the case study, it</a:t>
            </a:r>
            <a:r>
              <a:rPr b="0" lang="ja-JP" sz="3200" spc="-1" strike="noStrike">
                <a:solidFill>
                  <a:srgbClr val="000000"/>
                </a:solidFill>
                <a:latin typeface="Calibri"/>
              </a:rPr>
              <a:t>’</a:t>
            </a:r>
            <a:r>
              <a:rPr b="0" lang="en-US" sz="3200" spc="-1" strike="noStrike">
                <a:solidFill>
                  <a:srgbClr val="000000"/>
                </a:solidFill>
                <a:latin typeface="Calibri"/>
              </a:rPr>
              <a:t>s only 53 p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ore extensive books are given as referen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Counting to Reason</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I tell you that a certain disease D occurs in only 1% of the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 person has D, then test T will find it with probability 9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 person does not have the disease D, then T will come out negative 90% of the 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a test done to a random person, a person comes out positive for 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Coin Fair?</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toss a coin 17 times and it comes up heads 15 out of 17 ti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likely is it that coin is fai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uld look up Gaussian approximations to Binomial processes.  Maybe you</a:t>
            </a:r>
            <a:r>
              <a:rPr b="0" lang="ja-JP" sz="3200" spc="-1" strike="noStrike">
                <a:solidFill>
                  <a:srgbClr val="000000"/>
                </a:solidFill>
                <a:latin typeface="Calibri"/>
              </a:rPr>
              <a:t>’</a:t>
            </a:r>
            <a:r>
              <a:rPr b="0" lang="en-US" sz="3200" spc="-1" strike="noStrike">
                <a:solidFill>
                  <a:srgbClr val="000000"/>
                </a:solidFill>
                <a:latin typeface="Calibri"/>
              </a:rPr>
              <a:t>ve forgott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tuition First</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9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8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7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1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5%</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unting Approach</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magine you have 1000 people. 1% have the disease so that is 10 people. 9 will test positive.  If everyone takes the test, then of the 990 healthy people, approximately 99 will come out positive for T. So, at worst the likelihood that the person who tests positive has D is about 1 in 10 (9/9+99).</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ayesian Approach</a:t>
            </a: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D|T) = Prob(T|D) * Prob(D)/Prob(T) which is approximately equal to 0.9 * 0.01/0.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T) = Prob(D)* Prob(T|D) + Prob(~D)*Prob(T|~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xample</a:t>
            </a:r>
            <a:endParaRPr b="0" lang="en-US" sz="44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early mammograms reduce frequency of late stage breast cancer (40,000 in 2014) from 102 to 94 per 100,000 in the United States. Statistically significan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 to 47% of cancer treatments are unnecessary. So, of the 200,000 treatments in 2014, approximately 50,000 were unnecessary.</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 What Should You Do?</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mmogram positive and you do nothing, risk of dying is about 2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mmogram positive and you accept treatment, then risk of dying is 18.8%.</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reatment means chemotherapy/radi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ferences:</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Calibri"/>
                <a:hlinkClick r:id="rId1"/>
              </a:rPr>
              <a:t>https://qap.sdsu.edu/screening/breastcancer/facts.htm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www.webmd.com/breast-cancer/news/20121121/breast-cancer-yearly-mammogram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lim By Chocolate Hoax</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cience journalist John Bohannon ran a study in which he took 15 people, divided them into three groups – low carb, low carb with chocolate, normal di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fter three weeks, he measured weight loss and chocolate group did best with low p-val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ult is Probably Junk – why?</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asured 18 quantities: weight, cholesterol, sodium, sleep quality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r such a small number of people, something will get a low p-valu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lem of multiple tes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rticle ref: http://io9.com/i-fooled-millions-into-thinking-chocolate-helps-weight-170725180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16"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Coin Fair?</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could do the following 10,000 times: toss a fair coin 17 times and count how many times you end up with 15 or more heads.</a:t>
            </a:r>
            <a:endParaRPr b="0" lang="en-US" sz="3200" spc="-1" strike="noStrike">
              <a:solidFill>
                <a:srgbClr val="000000"/>
              </a:solidFill>
              <a:latin typeface="Calibri"/>
            </a:endParaRPr>
          </a:p>
        </p:txBody>
      </p:sp>
      <p:pic>
        <p:nvPicPr>
          <p:cNvPr id="49" name="Picture 3" descr="coinflip.tiff"/>
          <p:cNvPicPr/>
          <p:nvPr/>
        </p:nvPicPr>
        <p:blipFill>
          <a:blip r:embed="rId1"/>
          <a:stretch/>
        </p:blipFill>
        <p:spPr>
          <a:xfrm>
            <a:off x="717480" y="3429000"/>
            <a:ext cx="6159600" cy="3365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is Practical?</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akes under a second with your compu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this cheating? No, in the spirit of our times: solve differential equations with Euler’s metho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it better than analytical computation? Yes, because more robust, easier to reason abou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is the Resul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mething like 9 out of 10,000 times, get 15 heads in 17 tosses, assuming a fair co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gives a </a:t>
            </a:r>
            <a:r>
              <a:rPr b="0" lang="ja-JP" sz="3200" spc="-1" strike="noStrike">
                <a:solidFill>
                  <a:srgbClr val="000000"/>
                </a:solidFill>
                <a:latin typeface="Calibri"/>
              </a:rPr>
              <a:t>“</a:t>
            </a:r>
            <a:r>
              <a:rPr b="0" lang="en-US" sz="3200" spc="-1" strike="noStrike">
                <a:solidFill>
                  <a:srgbClr val="000000"/>
                </a:solidFill>
                <a:latin typeface="Calibri"/>
              </a:rPr>
              <a:t>p-value</a:t>
            </a:r>
            <a:r>
              <a:rPr b="0" lang="ja-JP" sz="3200" spc="-1" strike="noStrike">
                <a:solidFill>
                  <a:srgbClr val="000000"/>
                </a:solidFill>
                <a:latin typeface="Calibri"/>
              </a:rPr>
              <a:t>”</a:t>
            </a:r>
            <a:r>
              <a:rPr b="0" lang="en-US" sz="3200" spc="-1" strike="noStrike">
                <a:solidFill>
                  <a:srgbClr val="000000"/>
                </a:solidFill>
                <a:latin typeface="Calibri"/>
              </a:rPr>
              <a:t> of 9/1000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value is the probability that the outcome observed would have happened by chance if the coin truly were fai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maller p-value means less likely that the </a:t>
            </a:r>
            <a:r>
              <a:rPr b="0" lang="ja-JP" sz="3200" spc="-1" strike="noStrike">
                <a:solidFill>
                  <a:srgbClr val="000000"/>
                </a:solidFill>
                <a:latin typeface="Calibri"/>
              </a:rPr>
              <a:t>“</a:t>
            </a:r>
            <a:r>
              <a:rPr b="0" lang="en-US" sz="3200" spc="-1" strike="noStrike">
                <a:solidFill>
                  <a:srgbClr val="000000"/>
                </a:solidFill>
                <a:latin typeface="Calibri"/>
              </a:rPr>
              <a:t>null hypothesis</a:t>
            </a:r>
            <a:r>
              <a:rPr b="0" lang="ja-JP" sz="3200" spc="-1" strike="noStrike">
                <a:solidFill>
                  <a:srgbClr val="000000"/>
                </a:solidFill>
                <a:latin typeface="Calibri"/>
              </a:rPr>
              <a:t>”</a:t>
            </a:r>
            <a:r>
              <a:rPr b="0" lang="en-US" sz="3200" spc="-1" strike="noStrike">
                <a:solidFill>
                  <a:srgbClr val="000000"/>
                </a:solidFill>
                <a:latin typeface="Calibri"/>
              </a:rPr>
              <a:t> (coin is fair) is tr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Drug Effective?</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andom experiments are a good way to establish causality in the face of uncontrolled variation (e.g. lifestyle, wealth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that we do an experiment in which we compare the positive effect of a drug vs. the effect of a placeb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cebo: 54, 51, 58, 44, 55, 52, 42, 47, 58, 4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ug: 54, 73, 53, 70, 73, 68, 52, 65, 6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Drug Effective?</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verage for drug is 63.7 and for placebo 50.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that the end of the st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ybe not: perhaps the drug population </a:t>
            </a:r>
            <a:r>
              <a:rPr b="0" lang="ja-JP" sz="3200" spc="-1" strike="noStrike">
                <a:solidFill>
                  <a:srgbClr val="000000"/>
                </a:solidFill>
                <a:latin typeface="Calibri"/>
              </a:rPr>
              <a:t>“</a:t>
            </a:r>
            <a:r>
              <a:rPr b="0" lang="en-US" sz="3200" spc="-1" strike="noStrike">
                <a:solidFill>
                  <a:srgbClr val="000000"/>
                </a:solidFill>
                <a:latin typeface="Calibri"/>
              </a:rPr>
              <a:t>just happened</a:t>
            </a:r>
            <a:r>
              <a:rPr b="0" lang="ja-JP" sz="3200" spc="-1" strike="noStrike">
                <a:solidFill>
                  <a:srgbClr val="000000"/>
                </a:solidFill>
                <a:latin typeface="Calibri"/>
              </a:rPr>
              <a:t>”</a:t>
            </a:r>
            <a:r>
              <a:rPr b="0" lang="en-US" sz="3200" spc="-1" strike="noStrike">
                <a:solidFill>
                  <a:srgbClr val="000000"/>
                </a:solidFill>
                <a:latin typeface="Calibri"/>
              </a:rPr>
              <a:t> to be bet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ndard statistical approach: assume something about distributions and see how big the overlap among distributions 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sues with the standard approach?</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stribution assumption may not ho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ust be careful about different sizes of one population vs. the ot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asy to get the technicalities wrong (for non-statisticia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09T14:45:38Z</dcterms:created>
  <dc:creator>Dennis Shasha</dc:creator>
  <dc:description/>
  <dc:language>en-US</dc:language>
  <cp:lastModifiedBy>Dennis Shasha</cp:lastModifiedBy>
  <dcterms:modified xsi:type="dcterms:W3CDTF">2018-10-15T20:36:50Z</dcterms:modified>
  <cp:revision>38</cp:revision>
  <dc:subject/>
  <dc:title>Statistics is Easy</dc:title>
</cp:coreProperties>
</file>